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7.wmf" ContentType="image/x-wmf"/>
  <Override PartName="/ppt/media/image12.png" ContentType="image/png"/>
  <Override PartName="/ppt/media/image6.wmf" ContentType="image/x-wmf"/>
  <Override PartName="/ppt/media/image11.png" ContentType="image/png"/>
  <Override PartName="/ppt/media/image5.wmf" ContentType="image/x-wmf"/>
  <Override PartName="/ppt/media/image10.png" ContentType="image/png"/>
  <Override PartName="/ppt/media/image22.wmf" ContentType="image/x-wmf"/>
  <Override PartName="/ppt/media/image3.wmf" ContentType="image/x-wmf"/>
  <Override PartName="/ppt/media/image21.png" ContentType="image/png"/>
  <Override PartName="/ppt/media/image19.png" ContentType="image/png"/>
  <Override PartName="/ppt/media/image2.wmf" ContentType="image/x-wmf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4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15479713" cy="972343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27D61-7550-4ED5-8D43-C84140306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74720" y="388440"/>
            <a:ext cx="13932000" cy="1621080"/>
          </a:xfrm>
          <a:prstGeom prst="rect">
            <a:avLst/>
          </a:prstGeom>
          <a:noFill/>
          <a:ln w="0">
            <a:noFill/>
          </a:ln>
        </p:spPr>
        <p:txBody>
          <a:bodyPr lIns="151560" rIns="151560" tIns="75960" bIns="75960" anchor="ctr">
            <a:noAutofit/>
          </a:bodyPr>
          <a:p>
            <a:pPr indent="0" algn="ctr">
              <a:buNone/>
              <a:tabLst>
                <a:tab algn="l" pos="0"/>
                <a:tab algn="l" pos="1517760"/>
                <a:tab algn="l" pos="3035160"/>
                <a:tab algn="l" pos="4552920"/>
                <a:tab algn="l" pos="6070680"/>
                <a:tab algn="l" pos="7588080"/>
                <a:tab algn="l" pos="9105840"/>
                <a:tab algn="l" pos="106236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74720" y="2266920"/>
            <a:ext cx="13932000" cy="3060000"/>
          </a:xfrm>
          <a:prstGeom prst="rect">
            <a:avLst/>
          </a:prstGeom>
          <a:noFill/>
          <a:ln w="0">
            <a:noFill/>
          </a:ln>
        </p:spPr>
        <p:txBody>
          <a:bodyPr lIns="151560" rIns="151560" tIns="75960" bIns="7596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1517760"/>
                <a:tab algn="l" pos="3035160"/>
                <a:tab algn="l" pos="4552920"/>
                <a:tab algn="l" pos="6070680"/>
                <a:tab algn="l" pos="7588080"/>
                <a:tab algn="l" pos="9105840"/>
                <a:tab algn="l" pos="106236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74720" y="5618160"/>
            <a:ext cx="13932000" cy="3060000"/>
          </a:xfrm>
          <a:prstGeom prst="rect">
            <a:avLst/>
          </a:prstGeom>
          <a:noFill/>
          <a:ln w="0">
            <a:noFill/>
          </a:ln>
        </p:spPr>
        <p:txBody>
          <a:bodyPr lIns="151560" rIns="151560" tIns="75960" bIns="7596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1517760"/>
                <a:tab algn="l" pos="3035160"/>
                <a:tab algn="l" pos="4552920"/>
                <a:tab algn="l" pos="6070680"/>
                <a:tab algn="l" pos="7588080"/>
                <a:tab algn="l" pos="9105840"/>
                <a:tab algn="l" pos="106236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40268-437E-4985-894A-06A0DA4AF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74720" y="388440"/>
            <a:ext cx="13932000" cy="1621080"/>
          </a:xfrm>
          <a:prstGeom prst="rect">
            <a:avLst/>
          </a:prstGeom>
          <a:noFill/>
          <a:ln w="0">
            <a:noFill/>
          </a:ln>
        </p:spPr>
        <p:txBody>
          <a:bodyPr lIns="151560" rIns="151560" tIns="75960" bIns="75960" anchor="ctr">
            <a:noAutofit/>
          </a:bodyPr>
          <a:p>
            <a:pPr indent="0" algn="ctr">
              <a:buNone/>
              <a:tabLst>
                <a:tab algn="l" pos="0"/>
                <a:tab algn="l" pos="1517760"/>
                <a:tab algn="l" pos="3035160"/>
                <a:tab algn="l" pos="4552920"/>
                <a:tab algn="l" pos="6070680"/>
                <a:tab algn="l" pos="7588080"/>
                <a:tab algn="l" pos="9105840"/>
                <a:tab algn="l" pos="106236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74720" y="2266920"/>
            <a:ext cx="6798600" cy="3060000"/>
          </a:xfrm>
          <a:prstGeom prst="rect">
            <a:avLst/>
          </a:prstGeom>
          <a:noFill/>
          <a:ln w="0">
            <a:noFill/>
          </a:ln>
        </p:spPr>
        <p:txBody>
          <a:bodyPr lIns="151560" rIns="151560" tIns="75960" bIns="7596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1517760"/>
                <a:tab algn="l" pos="3035160"/>
                <a:tab algn="l" pos="4552920"/>
                <a:tab algn="l" pos="6070680"/>
                <a:tab algn="l" pos="7588080"/>
                <a:tab algn="l" pos="9105840"/>
                <a:tab algn="l" pos="106236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913520" y="2266920"/>
            <a:ext cx="6798600" cy="3060000"/>
          </a:xfrm>
          <a:prstGeom prst="rect">
            <a:avLst/>
          </a:prstGeom>
          <a:noFill/>
          <a:ln w="0">
            <a:noFill/>
          </a:ln>
        </p:spPr>
        <p:txBody>
          <a:bodyPr lIns="151560" rIns="151560" tIns="75960" bIns="7596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1517760"/>
                <a:tab algn="l" pos="3035160"/>
                <a:tab algn="l" pos="4552920"/>
                <a:tab algn="l" pos="6070680"/>
                <a:tab algn="l" pos="7588080"/>
                <a:tab algn="l" pos="9105840"/>
                <a:tab algn="l" pos="106236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74720" y="5618160"/>
            <a:ext cx="6798600" cy="3060000"/>
          </a:xfrm>
          <a:prstGeom prst="rect">
            <a:avLst/>
          </a:prstGeom>
          <a:noFill/>
          <a:ln w="0">
            <a:noFill/>
          </a:ln>
        </p:spPr>
        <p:txBody>
          <a:bodyPr lIns="151560" rIns="151560" tIns="75960" bIns="7596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1517760"/>
                <a:tab algn="l" pos="3035160"/>
                <a:tab algn="l" pos="4552920"/>
                <a:tab algn="l" pos="6070680"/>
                <a:tab algn="l" pos="7588080"/>
                <a:tab algn="l" pos="9105840"/>
                <a:tab algn="l" pos="106236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7913520" y="5618160"/>
            <a:ext cx="6798600" cy="3060000"/>
          </a:xfrm>
          <a:prstGeom prst="rect">
            <a:avLst/>
          </a:prstGeom>
          <a:noFill/>
          <a:ln w="0">
            <a:noFill/>
          </a:ln>
        </p:spPr>
        <p:txBody>
          <a:bodyPr lIns="151560" rIns="151560" tIns="75960" bIns="7596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1517760"/>
                <a:tab algn="l" pos="3035160"/>
                <a:tab algn="l" pos="4552920"/>
                <a:tab algn="l" pos="6070680"/>
                <a:tab algn="l" pos="7588080"/>
                <a:tab algn="l" pos="9105840"/>
                <a:tab algn="l" pos="106236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08E62-B49D-4752-9C1E-DC1941B13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74720" y="388440"/>
            <a:ext cx="13932000" cy="1621080"/>
          </a:xfrm>
          <a:prstGeom prst="rect">
            <a:avLst/>
          </a:prstGeom>
          <a:noFill/>
          <a:ln w="0">
            <a:noFill/>
          </a:ln>
        </p:spPr>
        <p:txBody>
          <a:bodyPr lIns="151560" rIns="151560" tIns="75960" bIns="75960" anchor="ctr">
            <a:noAutofit/>
          </a:bodyPr>
          <a:p>
            <a:pPr indent="0" algn="ctr">
              <a:buNone/>
              <a:tabLst>
                <a:tab algn="l" pos="0"/>
                <a:tab algn="l" pos="1517760"/>
                <a:tab algn="l" pos="3035160"/>
                <a:tab algn="l" pos="4552920"/>
                <a:tab algn="l" pos="6070680"/>
                <a:tab algn="l" pos="7588080"/>
                <a:tab algn="l" pos="9105840"/>
                <a:tab algn="l" pos="106236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74720" y="2266920"/>
            <a:ext cx="4485960" cy="3060000"/>
          </a:xfrm>
          <a:prstGeom prst="rect">
            <a:avLst/>
          </a:prstGeom>
          <a:noFill/>
          <a:ln w="0">
            <a:noFill/>
          </a:ln>
        </p:spPr>
        <p:txBody>
          <a:bodyPr lIns="151560" rIns="151560" tIns="75960" bIns="7596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1517760"/>
                <a:tab algn="l" pos="3035160"/>
                <a:tab algn="l" pos="4552920"/>
                <a:tab algn="l" pos="6070680"/>
                <a:tab algn="l" pos="7588080"/>
                <a:tab algn="l" pos="9105840"/>
                <a:tab algn="l" pos="106236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485320" y="2266920"/>
            <a:ext cx="4485960" cy="3060000"/>
          </a:xfrm>
          <a:prstGeom prst="rect">
            <a:avLst/>
          </a:prstGeom>
          <a:noFill/>
          <a:ln w="0">
            <a:noFill/>
          </a:ln>
        </p:spPr>
        <p:txBody>
          <a:bodyPr lIns="151560" rIns="151560" tIns="75960" bIns="7596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1517760"/>
                <a:tab algn="l" pos="3035160"/>
                <a:tab algn="l" pos="4552920"/>
                <a:tab algn="l" pos="6070680"/>
                <a:tab algn="l" pos="7588080"/>
                <a:tab algn="l" pos="9105840"/>
                <a:tab algn="l" pos="106236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0195920" y="2266920"/>
            <a:ext cx="4485960" cy="3060000"/>
          </a:xfrm>
          <a:prstGeom prst="rect">
            <a:avLst/>
          </a:prstGeom>
          <a:noFill/>
          <a:ln w="0">
            <a:noFill/>
          </a:ln>
        </p:spPr>
        <p:txBody>
          <a:bodyPr lIns="151560" rIns="151560" tIns="75960" bIns="7596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1517760"/>
                <a:tab algn="l" pos="3035160"/>
                <a:tab algn="l" pos="4552920"/>
                <a:tab algn="l" pos="6070680"/>
                <a:tab algn="l" pos="7588080"/>
                <a:tab algn="l" pos="9105840"/>
                <a:tab algn="l" pos="106236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74720" y="5618160"/>
            <a:ext cx="4485960" cy="3060000"/>
          </a:xfrm>
          <a:prstGeom prst="rect">
            <a:avLst/>
          </a:prstGeom>
          <a:noFill/>
          <a:ln w="0">
            <a:noFill/>
          </a:ln>
        </p:spPr>
        <p:txBody>
          <a:bodyPr lIns="151560" rIns="151560" tIns="75960" bIns="7596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1517760"/>
                <a:tab algn="l" pos="3035160"/>
                <a:tab algn="l" pos="4552920"/>
                <a:tab algn="l" pos="6070680"/>
                <a:tab algn="l" pos="7588080"/>
                <a:tab algn="l" pos="9105840"/>
                <a:tab algn="l" pos="106236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5485320" y="5618160"/>
            <a:ext cx="4485960" cy="3060000"/>
          </a:xfrm>
          <a:prstGeom prst="rect">
            <a:avLst/>
          </a:prstGeom>
          <a:noFill/>
          <a:ln w="0">
            <a:noFill/>
          </a:ln>
        </p:spPr>
        <p:txBody>
          <a:bodyPr lIns="151560" rIns="151560" tIns="75960" bIns="7596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1517760"/>
                <a:tab algn="l" pos="3035160"/>
                <a:tab algn="l" pos="4552920"/>
                <a:tab algn="l" pos="6070680"/>
                <a:tab algn="l" pos="7588080"/>
                <a:tab algn="l" pos="9105840"/>
                <a:tab algn="l" pos="106236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0195920" y="5618160"/>
            <a:ext cx="4485960" cy="3060000"/>
          </a:xfrm>
          <a:prstGeom prst="rect">
            <a:avLst/>
          </a:prstGeom>
          <a:noFill/>
          <a:ln w="0">
            <a:noFill/>
          </a:ln>
        </p:spPr>
        <p:txBody>
          <a:bodyPr lIns="151560" rIns="151560" tIns="75960" bIns="7596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1517760"/>
                <a:tab algn="l" pos="3035160"/>
                <a:tab algn="l" pos="4552920"/>
                <a:tab algn="l" pos="6070680"/>
                <a:tab algn="l" pos="7588080"/>
                <a:tab algn="l" pos="9105840"/>
                <a:tab algn="l" pos="106236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F5226-1CA4-4D00-9426-7DB252556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74720" y="388440"/>
            <a:ext cx="13932000" cy="1621080"/>
          </a:xfrm>
          <a:prstGeom prst="rect">
            <a:avLst/>
          </a:prstGeom>
          <a:noFill/>
          <a:ln w="0">
            <a:noFill/>
          </a:ln>
        </p:spPr>
        <p:txBody>
          <a:bodyPr lIns="151560" rIns="151560" tIns="75960" bIns="75960" anchor="ctr">
            <a:noAutofit/>
          </a:bodyPr>
          <a:p>
            <a:pPr indent="0" algn="ctr">
              <a:buNone/>
              <a:tabLst>
                <a:tab algn="l" pos="0"/>
                <a:tab algn="l" pos="1517760"/>
                <a:tab algn="l" pos="3035160"/>
                <a:tab algn="l" pos="4552920"/>
                <a:tab algn="l" pos="6070680"/>
                <a:tab algn="l" pos="7588080"/>
                <a:tab algn="l" pos="9105840"/>
                <a:tab algn="l" pos="106236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74720" y="2266920"/>
            <a:ext cx="13932000" cy="64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1517760"/>
                <a:tab algn="l" pos="3035160"/>
                <a:tab algn="l" pos="4552920"/>
                <a:tab algn="l" pos="6070680"/>
                <a:tab algn="l" pos="7588080"/>
                <a:tab algn="l" pos="9105840"/>
                <a:tab algn="l" pos="106236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67F50-1157-4AD6-967A-6991466D1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4720" y="388440"/>
            <a:ext cx="13932000" cy="1621080"/>
          </a:xfrm>
          <a:prstGeom prst="rect">
            <a:avLst/>
          </a:prstGeom>
          <a:noFill/>
          <a:ln w="0">
            <a:noFill/>
          </a:ln>
        </p:spPr>
        <p:txBody>
          <a:bodyPr lIns="151560" rIns="151560" tIns="75960" bIns="75960" anchor="ctr">
            <a:noAutofit/>
          </a:bodyPr>
          <a:p>
            <a:pPr indent="0" algn="ctr">
              <a:buNone/>
              <a:tabLst>
                <a:tab algn="l" pos="0"/>
                <a:tab algn="l" pos="1517760"/>
                <a:tab algn="l" pos="3035160"/>
                <a:tab algn="l" pos="4552920"/>
                <a:tab algn="l" pos="6070680"/>
                <a:tab algn="l" pos="7588080"/>
                <a:tab algn="l" pos="9105840"/>
                <a:tab algn="l" pos="106236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74720" y="2266920"/>
            <a:ext cx="13932000" cy="6415200"/>
          </a:xfrm>
          <a:prstGeom prst="rect">
            <a:avLst/>
          </a:prstGeom>
          <a:noFill/>
          <a:ln w="0">
            <a:noFill/>
          </a:ln>
        </p:spPr>
        <p:txBody>
          <a:bodyPr lIns="151560" rIns="151560" tIns="75960" bIns="7596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1517760"/>
                <a:tab algn="l" pos="3035160"/>
                <a:tab algn="l" pos="4552920"/>
                <a:tab algn="l" pos="6070680"/>
                <a:tab algn="l" pos="7588080"/>
                <a:tab algn="l" pos="9105840"/>
                <a:tab algn="l" pos="106236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BDC8A-8384-4D7A-BC68-86B50D071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4720" y="388440"/>
            <a:ext cx="13932000" cy="1621080"/>
          </a:xfrm>
          <a:prstGeom prst="rect">
            <a:avLst/>
          </a:prstGeom>
          <a:noFill/>
          <a:ln w="0">
            <a:noFill/>
          </a:ln>
        </p:spPr>
        <p:txBody>
          <a:bodyPr lIns="151560" rIns="151560" tIns="75960" bIns="75960" anchor="ctr">
            <a:noAutofit/>
          </a:bodyPr>
          <a:p>
            <a:pPr indent="0" algn="ctr">
              <a:buNone/>
              <a:tabLst>
                <a:tab algn="l" pos="0"/>
                <a:tab algn="l" pos="1517760"/>
                <a:tab algn="l" pos="3035160"/>
                <a:tab algn="l" pos="4552920"/>
                <a:tab algn="l" pos="6070680"/>
                <a:tab algn="l" pos="7588080"/>
                <a:tab algn="l" pos="9105840"/>
                <a:tab algn="l" pos="106236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74720" y="2266920"/>
            <a:ext cx="6798600" cy="6415200"/>
          </a:xfrm>
          <a:prstGeom prst="rect">
            <a:avLst/>
          </a:prstGeom>
          <a:noFill/>
          <a:ln w="0">
            <a:noFill/>
          </a:ln>
        </p:spPr>
        <p:txBody>
          <a:bodyPr lIns="151560" rIns="151560" tIns="75960" bIns="7596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1517760"/>
                <a:tab algn="l" pos="3035160"/>
                <a:tab algn="l" pos="4552920"/>
                <a:tab algn="l" pos="6070680"/>
                <a:tab algn="l" pos="7588080"/>
                <a:tab algn="l" pos="9105840"/>
                <a:tab algn="l" pos="106236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7913520" y="2266920"/>
            <a:ext cx="6798600" cy="6415200"/>
          </a:xfrm>
          <a:prstGeom prst="rect">
            <a:avLst/>
          </a:prstGeom>
          <a:noFill/>
          <a:ln w="0">
            <a:noFill/>
          </a:ln>
        </p:spPr>
        <p:txBody>
          <a:bodyPr lIns="151560" rIns="151560" tIns="75960" bIns="7596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1517760"/>
                <a:tab algn="l" pos="3035160"/>
                <a:tab algn="l" pos="4552920"/>
                <a:tab algn="l" pos="6070680"/>
                <a:tab algn="l" pos="7588080"/>
                <a:tab algn="l" pos="9105840"/>
                <a:tab algn="l" pos="106236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86F1F-33B6-4091-8FDB-87E1A44F7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74720" y="388440"/>
            <a:ext cx="13932000" cy="1621080"/>
          </a:xfrm>
          <a:prstGeom prst="rect">
            <a:avLst/>
          </a:prstGeom>
          <a:noFill/>
          <a:ln w="0">
            <a:noFill/>
          </a:ln>
        </p:spPr>
        <p:txBody>
          <a:bodyPr lIns="151560" rIns="151560" tIns="75960" bIns="75960" anchor="ctr">
            <a:noAutofit/>
          </a:bodyPr>
          <a:p>
            <a:pPr indent="0" algn="ctr">
              <a:buNone/>
              <a:tabLst>
                <a:tab algn="l" pos="0"/>
                <a:tab algn="l" pos="1517760"/>
                <a:tab algn="l" pos="3035160"/>
                <a:tab algn="l" pos="4552920"/>
                <a:tab algn="l" pos="6070680"/>
                <a:tab algn="l" pos="7588080"/>
                <a:tab algn="l" pos="9105840"/>
                <a:tab algn="l" pos="106236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D3222-515D-4131-8848-76E0BF547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74720" y="388440"/>
            <a:ext cx="13932000" cy="751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1517760"/>
                <a:tab algn="l" pos="3035160"/>
                <a:tab algn="l" pos="4552920"/>
                <a:tab algn="l" pos="6070680"/>
                <a:tab algn="l" pos="7588080"/>
                <a:tab algn="l" pos="9105840"/>
                <a:tab algn="l" pos="106236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8CC06-CF45-42AA-9789-4C151BC40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4720" y="388440"/>
            <a:ext cx="13932000" cy="1621080"/>
          </a:xfrm>
          <a:prstGeom prst="rect">
            <a:avLst/>
          </a:prstGeom>
          <a:noFill/>
          <a:ln w="0">
            <a:noFill/>
          </a:ln>
        </p:spPr>
        <p:txBody>
          <a:bodyPr lIns="151560" rIns="151560" tIns="75960" bIns="75960" anchor="ctr">
            <a:noAutofit/>
          </a:bodyPr>
          <a:p>
            <a:pPr indent="0" algn="ctr">
              <a:buNone/>
              <a:tabLst>
                <a:tab algn="l" pos="0"/>
                <a:tab algn="l" pos="1517760"/>
                <a:tab algn="l" pos="3035160"/>
                <a:tab algn="l" pos="4552920"/>
                <a:tab algn="l" pos="6070680"/>
                <a:tab algn="l" pos="7588080"/>
                <a:tab algn="l" pos="9105840"/>
                <a:tab algn="l" pos="106236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74720" y="2266920"/>
            <a:ext cx="6798600" cy="3060000"/>
          </a:xfrm>
          <a:prstGeom prst="rect">
            <a:avLst/>
          </a:prstGeom>
          <a:noFill/>
          <a:ln w="0">
            <a:noFill/>
          </a:ln>
        </p:spPr>
        <p:txBody>
          <a:bodyPr lIns="151560" rIns="151560" tIns="75960" bIns="7596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1517760"/>
                <a:tab algn="l" pos="3035160"/>
                <a:tab algn="l" pos="4552920"/>
                <a:tab algn="l" pos="6070680"/>
                <a:tab algn="l" pos="7588080"/>
                <a:tab algn="l" pos="9105840"/>
                <a:tab algn="l" pos="106236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7913520" y="2266920"/>
            <a:ext cx="6798600" cy="6415200"/>
          </a:xfrm>
          <a:prstGeom prst="rect">
            <a:avLst/>
          </a:prstGeom>
          <a:noFill/>
          <a:ln w="0">
            <a:noFill/>
          </a:ln>
        </p:spPr>
        <p:txBody>
          <a:bodyPr lIns="151560" rIns="151560" tIns="75960" bIns="7596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1517760"/>
                <a:tab algn="l" pos="3035160"/>
                <a:tab algn="l" pos="4552920"/>
                <a:tab algn="l" pos="6070680"/>
                <a:tab algn="l" pos="7588080"/>
                <a:tab algn="l" pos="9105840"/>
                <a:tab algn="l" pos="106236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74720" y="5618160"/>
            <a:ext cx="6798600" cy="3060000"/>
          </a:xfrm>
          <a:prstGeom prst="rect">
            <a:avLst/>
          </a:prstGeom>
          <a:noFill/>
          <a:ln w="0">
            <a:noFill/>
          </a:ln>
        </p:spPr>
        <p:txBody>
          <a:bodyPr lIns="151560" rIns="151560" tIns="75960" bIns="7596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1517760"/>
                <a:tab algn="l" pos="3035160"/>
                <a:tab algn="l" pos="4552920"/>
                <a:tab algn="l" pos="6070680"/>
                <a:tab algn="l" pos="7588080"/>
                <a:tab algn="l" pos="9105840"/>
                <a:tab algn="l" pos="106236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36A04-18C7-43FB-9FF2-F5993B7A8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74720" y="388440"/>
            <a:ext cx="13932000" cy="1621080"/>
          </a:xfrm>
          <a:prstGeom prst="rect">
            <a:avLst/>
          </a:prstGeom>
          <a:noFill/>
          <a:ln w="0">
            <a:noFill/>
          </a:ln>
        </p:spPr>
        <p:txBody>
          <a:bodyPr lIns="151560" rIns="151560" tIns="75960" bIns="75960" anchor="ctr">
            <a:noAutofit/>
          </a:bodyPr>
          <a:p>
            <a:pPr indent="0" algn="ctr">
              <a:buNone/>
              <a:tabLst>
                <a:tab algn="l" pos="0"/>
                <a:tab algn="l" pos="1517760"/>
                <a:tab algn="l" pos="3035160"/>
                <a:tab algn="l" pos="4552920"/>
                <a:tab algn="l" pos="6070680"/>
                <a:tab algn="l" pos="7588080"/>
                <a:tab algn="l" pos="9105840"/>
                <a:tab algn="l" pos="106236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74720" y="2266920"/>
            <a:ext cx="6798600" cy="6415200"/>
          </a:xfrm>
          <a:prstGeom prst="rect">
            <a:avLst/>
          </a:prstGeom>
          <a:noFill/>
          <a:ln w="0">
            <a:noFill/>
          </a:ln>
        </p:spPr>
        <p:txBody>
          <a:bodyPr lIns="151560" rIns="151560" tIns="75960" bIns="7596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1517760"/>
                <a:tab algn="l" pos="3035160"/>
                <a:tab algn="l" pos="4552920"/>
                <a:tab algn="l" pos="6070680"/>
                <a:tab algn="l" pos="7588080"/>
                <a:tab algn="l" pos="9105840"/>
                <a:tab algn="l" pos="106236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7913520" y="2266920"/>
            <a:ext cx="6798600" cy="3060000"/>
          </a:xfrm>
          <a:prstGeom prst="rect">
            <a:avLst/>
          </a:prstGeom>
          <a:noFill/>
          <a:ln w="0">
            <a:noFill/>
          </a:ln>
        </p:spPr>
        <p:txBody>
          <a:bodyPr lIns="151560" rIns="151560" tIns="75960" bIns="7596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1517760"/>
                <a:tab algn="l" pos="3035160"/>
                <a:tab algn="l" pos="4552920"/>
                <a:tab algn="l" pos="6070680"/>
                <a:tab algn="l" pos="7588080"/>
                <a:tab algn="l" pos="9105840"/>
                <a:tab algn="l" pos="106236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7913520" y="5618160"/>
            <a:ext cx="6798600" cy="3060000"/>
          </a:xfrm>
          <a:prstGeom prst="rect">
            <a:avLst/>
          </a:prstGeom>
          <a:noFill/>
          <a:ln w="0">
            <a:noFill/>
          </a:ln>
        </p:spPr>
        <p:txBody>
          <a:bodyPr lIns="151560" rIns="151560" tIns="75960" bIns="7596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1517760"/>
                <a:tab algn="l" pos="3035160"/>
                <a:tab algn="l" pos="4552920"/>
                <a:tab algn="l" pos="6070680"/>
                <a:tab algn="l" pos="7588080"/>
                <a:tab algn="l" pos="9105840"/>
                <a:tab algn="l" pos="106236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1A39C-458B-42F4-B1F1-F0EAB4762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74720" y="388440"/>
            <a:ext cx="13932000" cy="1621080"/>
          </a:xfrm>
          <a:prstGeom prst="rect">
            <a:avLst/>
          </a:prstGeom>
          <a:noFill/>
          <a:ln w="0">
            <a:noFill/>
          </a:ln>
        </p:spPr>
        <p:txBody>
          <a:bodyPr lIns="151560" rIns="151560" tIns="75960" bIns="75960" anchor="ctr">
            <a:noAutofit/>
          </a:bodyPr>
          <a:p>
            <a:pPr indent="0" algn="ctr">
              <a:buNone/>
              <a:tabLst>
                <a:tab algn="l" pos="0"/>
                <a:tab algn="l" pos="1517760"/>
                <a:tab algn="l" pos="3035160"/>
                <a:tab algn="l" pos="4552920"/>
                <a:tab algn="l" pos="6070680"/>
                <a:tab algn="l" pos="7588080"/>
                <a:tab algn="l" pos="9105840"/>
                <a:tab algn="l" pos="106236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74720" y="2266920"/>
            <a:ext cx="6798600" cy="3060000"/>
          </a:xfrm>
          <a:prstGeom prst="rect">
            <a:avLst/>
          </a:prstGeom>
          <a:noFill/>
          <a:ln w="0">
            <a:noFill/>
          </a:ln>
        </p:spPr>
        <p:txBody>
          <a:bodyPr lIns="151560" rIns="151560" tIns="75960" bIns="7596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1517760"/>
                <a:tab algn="l" pos="3035160"/>
                <a:tab algn="l" pos="4552920"/>
                <a:tab algn="l" pos="6070680"/>
                <a:tab algn="l" pos="7588080"/>
                <a:tab algn="l" pos="9105840"/>
                <a:tab algn="l" pos="106236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7913520" y="2266920"/>
            <a:ext cx="6798600" cy="3060000"/>
          </a:xfrm>
          <a:prstGeom prst="rect">
            <a:avLst/>
          </a:prstGeom>
          <a:noFill/>
          <a:ln w="0">
            <a:noFill/>
          </a:ln>
        </p:spPr>
        <p:txBody>
          <a:bodyPr lIns="151560" rIns="151560" tIns="75960" bIns="7596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1517760"/>
                <a:tab algn="l" pos="3035160"/>
                <a:tab algn="l" pos="4552920"/>
                <a:tab algn="l" pos="6070680"/>
                <a:tab algn="l" pos="7588080"/>
                <a:tab algn="l" pos="9105840"/>
                <a:tab algn="l" pos="106236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74720" y="5618160"/>
            <a:ext cx="13932000" cy="3060000"/>
          </a:xfrm>
          <a:prstGeom prst="rect">
            <a:avLst/>
          </a:prstGeom>
          <a:noFill/>
          <a:ln w="0">
            <a:noFill/>
          </a:ln>
        </p:spPr>
        <p:txBody>
          <a:bodyPr lIns="151560" rIns="151560" tIns="75960" bIns="7596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1517760"/>
                <a:tab algn="l" pos="3035160"/>
                <a:tab algn="l" pos="4552920"/>
                <a:tab algn="l" pos="6070680"/>
                <a:tab algn="l" pos="7588080"/>
                <a:tab algn="l" pos="9105840"/>
                <a:tab algn="l" pos="106236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58887-93BC-4FE4-ACEF-BAF283418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eaeae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4720" y="388440"/>
            <a:ext cx="13932000" cy="1621080"/>
          </a:xfrm>
          <a:prstGeom prst="rect">
            <a:avLst/>
          </a:prstGeom>
          <a:noFill/>
          <a:ln w="0">
            <a:noFill/>
          </a:ln>
        </p:spPr>
        <p:txBody>
          <a:bodyPr lIns="151560" rIns="151560" tIns="75960" bIns="75960" anchor="ctr">
            <a:noAutofit/>
          </a:bodyPr>
          <a:p>
            <a:pPr indent="0" algn="ctr">
              <a:buNone/>
              <a:tabLst>
                <a:tab algn="l" pos="0"/>
                <a:tab algn="l" pos="1517760"/>
                <a:tab algn="l" pos="3035160"/>
                <a:tab algn="l" pos="4552920"/>
                <a:tab algn="l" pos="6070680"/>
                <a:tab algn="l" pos="7588080"/>
                <a:tab algn="l" pos="9105840"/>
                <a:tab algn="l" pos="106236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74720" y="2266920"/>
            <a:ext cx="13932000" cy="6415200"/>
          </a:xfrm>
          <a:prstGeom prst="rect">
            <a:avLst/>
          </a:prstGeom>
          <a:noFill/>
          <a:ln w="0">
            <a:noFill/>
          </a:ln>
        </p:spPr>
        <p:txBody>
          <a:bodyPr lIns="151560" rIns="151560" tIns="75960" bIns="75960" anchor="t">
            <a:normAutofit fontScale="92000"/>
          </a:bodyPr>
          <a:p>
            <a:pPr marL="522720" indent="-52272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1517760"/>
                <a:tab algn="l" pos="3035160"/>
                <a:tab algn="l" pos="4552920"/>
                <a:tab algn="l" pos="6070680"/>
                <a:tab algn="l" pos="7588080"/>
                <a:tab algn="l" pos="9105840"/>
                <a:tab algn="l" pos="106236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1133280" indent="-436680">
              <a:spcBef>
                <a:spcPts val="1349"/>
              </a:spcBef>
              <a:buClr>
                <a:srgbClr val="000000"/>
              </a:buClr>
              <a:buFont typeface="Arial"/>
              <a:buChar char="–"/>
              <a:tabLst>
                <a:tab algn="l" pos="1517760"/>
                <a:tab algn="l" pos="3035160"/>
                <a:tab algn="l" pos="4552920"/>
                <a:tab algn="l" pos="6070680"/>
                <a:tab algn="l" pos="7588080"/>
                <a:tab algn="l" pos="9105840"/>
                <a:tab algn="l" pos="106236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2" marL="1745280" indent="-34884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1517760"/>
                <a:tab algn="l" pos="3035160"/>
                <a:tab algn="l" pos="4552920"/>
                <a:tab algn="l" pos="6070680"/>
                <a:tab algn="l" pos="7588080"/>
                <a:tab algn="l" pos="9105840"/>
                <a:tab algn="l" pos="106236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3" marL="2442960" indent="-350280">
              <a:spcBef>
                <a:spcPts val="1349"/>
              </a:spcBef>
              <a:buClr>
                <a:srgbClr val="000000"/>
              </a:buClr>
              <a:buFont typeface="Arial"/>
              <a:buChar char="–"/>
              <a:tabLst>
                <a:tab algn="l" pos="1517760"/>
                <a:tab algn="l" pos="3035160"/>
                <a:tab algn="l" pos="4552920"/>
                <a:tab algn="l" pos="6070680"/>
                <a:tab algn="l" pos="7588080"/>
                <a:tab algn="l" pos="9105840"/>
                <a:tab algn="l" pos="106236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4" marL="3139920" indent="-347760">
              <a:spcBef>
                <a:spcPts val="1349"/>
              </a:spcBef>
              <a:buClr>
                <a:srgbClr val="000000"/>
              </a:buClr>
              <a:buFont typeface="Arial"/>
              <a:buChar char="»"/>
              <a:tabLst>
                <a:tab algn="l" pos="1517760"/>
                <a:tab algn="l" pos="3035160"/>
                <a:tab algn="l" pos="4552920"/>
                <a:tab algn="l" pos="6070680"/>
                <a:tab algn="l" pos="7588080"/>
                <a:tab algn="l" pos="9105840"/>
                <a:tab algn="l" pos="106236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5" marL="3139920" indent="-347760">
              <a:spcBef>
                <a:spcPts val="1349"/>
              </a:spcBef>
              <a:buClr>
                <a:srgbClr val="000000"/>
              </a:buClr>
              <a:buFont typeface="Arial"/>
              <a:buChar char="»"/>
              <a:tabLst>
                <a:tab algn="l" pos="1517760"/>
                <a:tab algn="l" pos="3035160"/>
                <a:tab algn="l" pos="4552920"/>
                <a:tab algn="l" pos="6070680"/>
                <a:tab algn="l" pos="7588080"/>
                <a:tab algn="l" pos="9105840"/>
                <a:tab algn="l" pos="106236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6" marL="3139920" indent="-347760">
              <a:spcBef>
                <a:spcPts val="1349"/>
              </a:spcBef>
              <a:buClr>
                <a:srgbClr val="000000"/>
              </a:buClr>
              <a:buFont typeface="Arial"/>
              <a:buChar char="»"/>
              <a:tabLst>
                <a:tab algn="l" pos="1517760"/>
                <a:tab algn="l" pos="3035160"/>
                <a:tab algn="l" pos="4552920"/>
                <a:tab algn="l" pos="6070680"/>
                <a:tab algn="l" pos="7588080"/>
                <a:tab algn="l" pos="9105840"/>
                <a:tab algn="l" pos="106236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74720" y="8850240"/>
            <a:ext cx="3611520" cy="681120"/>
          </a:xfrm>
          <a:prstGeom prst="rect">
            <a:avLst/>
          </a:prstGeom>
          <a:noFill/>
          <a:ln w="0">
            <a:noFill/>
          </a:ln>
        </p:spPr>
        <p:txBody>
          <a:bodyPr lIns="151560" rIns="151560" tIns="75960" bIns="75960" anchor="t">
            <a:noAutofit/>
          </a:bodyPr>
          <a:lstStyle>
            <a:lvl1pPr indent="0">
              <a:buNone/>
              <a:tabLst>
                <a:tab algn="l" pos="0"/>
                <a:tab algn="l" pos="1517760"/>
                <a:tab algn="l" pos="3035160"/>
                <a:tab algn="l" pos="4552920"/>
                <a:tab algn="l" pos="6070680"/>
                <a:tab algn="l" pos="7588080"/>
                <a:tab algn="l" pos="9105840"/>
                <a:tab algn="l" pos="106236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1517760"/>
                <a:tab algn="l" pos="3035160"/>
                <a:tab algn="l" pos="4552920"/>
                <a:tab algn="l" pos="6070680"/>
                <a:tab algn="l" pos="7588080"/>
                <a:tab algn="l" pos="9105840"/>
                <a:tab algn="l" pos="10623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289120" y="8850240"/>
            <a:ext cx="4902120" cy="681120"/>
          </a:xfrm>
          <a:prstGeom prst="rect">
            <a:avLst/>
          </a:prstGeom>
          <a:noFill/>
          <a:ln w="0">
            <a:noFill/>
          </a:ln>
        </p:spPr>
        <p:txBody>
          <a:bodyPr lIns="151560" rIns="151560" tIns="75960" bIns="75960" anchor="t">
            <a:noAutofit/>
          </a:bodyPr>
          <a:lstStyle>
            <a:lvl1pPr indent="0" algn="ctr">
              <a:buNone/>
              <a:tabLst>
                <a:tab algn="l" pos="0"/>
                <a:tab algn="l" pos="1517760"/>
                <a:tab algn="l" pos="3035160"/>
                <a:tab algn="l" pos="4552920"/>
                <a:tab algn="l" pos="6070680"/>
                <a:tab algn="l" pos="7588080"/>
                <a:tab algn="l" pos="9105840"/>
                <a:tab algn="l" pos="106236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1517760"/>
                <a:tab algn="l" pos="3035160"/>
                <a:tab algn="l" pos="4552920"/>
                <a:tab algn="l" pos="6070680"/>
                <a:tab algn="l" pos="7588080"/>
                <a:tab algn="l" pos="9105840"/>
                <a:tab algn="l" pos="10623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1095200" y="8850240"/>
            <a:ext cx="3611520" cy="681120"/>
          </a:xfrm>
          <a:prstGeom prst="rect">
            <a:avLst/>
          </a:prstGeom>
          <a:noFill/>
          <a:ln w="0">
            <a:noFill/>
          </a:ln>
        </p:spPr>
        <p:txBody>
          <a:bodyPr lIns="151560" rIns="151560" tIns="75960" bIns="75960" anchor="t">
            <a:noAutofit/>
          </a:bodyPr>
          <a:lstStyle>
            <a:lvl1pPr indent="0" algn="r">
              <a:buNone/>
              <a:tabLst>
                <a:tab algn="l" pos="0"/>
                <a:tab algn="l" pos="1517760"/>
                <a:tab algn="l" pos="3035160"/>
                <a:tab algn="l" pos="4552920"/>
                <a:tab algn="l" pos="6070680"/>
                <a:tab algn="l" pos="7588080"/>
                <a:tab algn="l" pos="9105840"/>
                <a:tab algn="l" pos="106236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1517760"/>
                <a:tab algn="l" pos="3035160"/>
                <a:tab algn="l" pos="4552920"/>
                <a:tab algn="l" pos="6070680"/>
                <a:tab algn="l" pos="7588080"/>
                <a:tab algn="l" pos="9105840"/>
                <a:tab algn="l" pos="10623600"/>
              </a:tabLst>
            </a:pPr>
            <a:fld id="{5FB0E608-3078-4A58-9FA2-404ADF36A074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1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image" Target="../media/image2.wmf"/><Relationship Id="rId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eaeae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45800" y="2052360"/>
            <a:ext cx="13493880" cy="3119400"/>
          </a:xfrm>
          <a:prstGeom prst="rect">
            <a:avLst/>
          </a:prstGeom>
          <a:noFill/>
          <a:ln w="0">
            <a:noFill/>
          </a:ln>
        </p:spPr>
        <p:txBody>
          <a:bodyPr lIns="151560" rIns="151560" tIns="75960" bIns="75960" anchor="ctr">
            <a:noAutofit/>
          </a:bodyPr>
          <a:p>
            <a:pPr indent="0" algn="ctr">
              <a:buNone/>
              <a:tabLst>
                <a:tab algn="l" pos="0"/>
                <a:tab algn="l" pos="1517760"/>
                <a:tab algn="l" pos="3035160"/>
                <a:tab algn="l" pos="4552920"/>
                <a:tab algn="l" pos="6070680"/>
                <a:tab algn="l" pos="7588080"/>
                <a:tab algn="l" pos="9105840"/>
                <a:tab algn="l" pos="10623600"/>
              </a:tabLst>
            </a:pPr>
            <a:r>
              <a:rPr b="0" lang="pt-BR" sz="6100" spc="-1" strike="noStrike">
                <a:solidFill>
                  <a:srgbClr val="cc3300"/>
                </a:solidFill>
                <a:latin typeface="Arial"/>
              </a:rPr>
              <a:t>Reconhecimento de comandos de voz para acionar equipamentos eletrônicos</a:t>
            </a: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396360" y="6516720"/>
            <a:ext cx="453708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1517760"/>
                <a:tab algn="l" pos="3035160"/>
                <a:tab algn="l" pos="4552920"/>
                <a:tab algn="l" pos="6070680"/>
                <a:tab algn="l" pos="7588080"/>
                <a:tab algn="l" pos="9105840"/>
                <a:tab algn="l" pos="106236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</a:rPr>
              <a:t>Luiz Gustavo Fagund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517760"/>
                <a:tab algn="l" pos="3035160"/>
                <a:tab algn="l" pos="4552920"/>
                <a:tab algn="l" pos="6070680"/>
                <a:tab algn="l" pos="7588080"/>
                <a:tab algn="l" pos="9105840"/>
                <a:tab algn="l" pos="106236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</a:rPr>
              <a:t>Engenharia Elétric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517760"/>
                <a:tab algn="l" pos="3035160"/>
                <a:tab algn="l" pos="4552920"/>
                <a:tab algn="l" pos="6070680"/>
                <a:tab algn="l" pos="7588080"/>
                <a:tab algn="l" pos="9105840"/>
                <a:tab algn="l" pos="106236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</a:rPr>
              <a:t>ULBRA - Canoa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517760"/>
                <a:tab algn="l" pos="3035160"/>
                <a:tab algn="l" pos="4552920"/>
                <a:tab algn="l" pos="6070680"/>
                <a:tab algn="l" pos="7588080"/>
                <a:tab algn="l" pos="9105840"/>
                <a:tab algn="l" pos="106236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</a:rPr>
              <a:t>2006/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eaeae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74720" y="388440"/>
            <a:ext cx="13932000" cy="1621080"/>
          </a:xfrm>
          <a:prstGeom prst="rect">
            <a:avLst/>
          </a:prstGeom>
          <a:noFill/>
          <a:ln w="0">
            <a:noFill/>
          </a:ln>
        </p:spPr>
        <p:txBody>
          <a:bodyPr lIns="151560" rIns="151560" tIns="75960" bIns="75960" anchor="ctr">
            <a:noAutofit/>
          </a:bodyPr>
          <a:p>
            <a:pPr indent="0" algn="ctr">
              <a:buNone/>
              <a:tabLst>
                <a:tab algn="l" pos="0"/>
                <a:tab algn="l" pos="1517760"/>
                <a:tab algn="l" pos="3035160"/>
                <a:tab algn="l" pos="4552920"/>
                <a:tab algn="l" pos="6070680"/>
                <a:tab algn="l" pos="7588080"/>
                <a:tab algn="l" pos="9105840"/>
                <a:tab algn="l" pos="10623600"/>
              </a:tabLst>
            </a:pPr>
            <a:r>
              <a:rPr b="0" lang="pt-BR" sz="7200" spc="-1" strike="noStrike">
                <a:solidFill>
                  <a:srgbClr val="cc3300"/>
                </a:solidFill>
                <a:latin typeface="Arial"/>
              </a:rPr>
              <a:t>Pré-tratamento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148000" y="8821800"/>
            <a:ext cx="1873080" cy="504720"/>
          </a:xfrm>
          <a:prstGeom prst="rect">
            <a:avLst/>
          </a:prstGeom>
          <a:noFill/>
          <a:ln w="0">
            <a:noFill/>
          </a:ln>
        </p:spPr>
        <p:txBody>
          <a:bodyPr lIns="151560" rIns="151560" tIns="75960" bIns="75960" anchor="t">
            <a:normAutofit/>
          </a:bodyPr>
          <a:p>
            <a:pPr marL="56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517760"/>
                <a:tab algn="l" pos="3035160"/>
                <a:tab algn="l" pos="4552920"/>
                <a:tab algn="l" pos="6070680"/>
                <a:tab algn="l" pos="7588080"/>
                <a:tab algn="l" pos="9105840"/>
                <a:tab algn="l" pos="106236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宋体"/>
              </a:rPr>
              <a:t>Vol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1517760"/>
                <a:tab algn="l" pos="3035160"/>
                <a:tab algn="l" pos="4552920"/>
                <a:tab algn="l" pos="6070680"/>
                <a:tab algn="l" pos="7588080"/>
                <a:tab algn="l" pos="9105840"/>
                <a:tab algn="l" pos="10623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figura1" descr=""/>
          <p:cNvPicPr/>
          <p:nvPr/>
        </p:nvPicPr>
        <p:blipFill>
          <a:blip r:embed="rId1"/>
          <a:stretch/>
        </p:blipFill>
        <p:spPr>
          <a:xfrm>
            <a:off x="395280" y="1908000"/>
            <a:ext cx="3529080" cy="2644920"/>
          </a:xfrm>
          <a:prstGeom prst="rect">
            <a:avLst/>
          </a:prstGeom>
          <a:ln w="0">
            <a:noFill/>
          </a:ln>
        </p:spPr>
      </p:pic>
      <p:pic>
        <p:nvPicPr>
          <p:cNvPr id="115" name="figura1" descr=""/>
          <p:cNvPicPr/>
          <p:nvPr/>
        </p:nvPicPr>
        <p:blipFill>
          <a:blip r:embed="rId2"/>
          <a:stretch/>
        </p:blipFill>
        <p:spPr>
          <a:xfrm>
            <a:off x="4140360" y="1908000"/>
            <a:ext cx="3527280" cy="2648160"/>
          </a:xfrm>
          <a:prstGeom prst="rect">
            <a:avLst/>
          </a:prstGeom>
          <a:ln w="0">
            <a:noFill/>
          </a:ln>
        </p:spPr>
      </p:pic>
      <p:pic>
        <p:nvPicPr>
          <p:cNvPr id="116" name="figura1" descr=""/>
          <p:cNvPicPr/>
          <p:nvPr/>
        </p:nvPicPr>
        <p:blipFill>
          <a:blip r:embed="rId3"/>
          <a:stretch/>
        </p:blipFill>
        <p:spPr>
          <a:xfrm>
            <a:off x="7812000" y="1908000"/>
            <a:ext cx="3529080" cy="2648160"/>
          </a:xfrm>
          <a:prstGeom prst="rect">
            <a:avLst/>
          </a:prstGeom>
          <a:ln w="0">
            <a:noFill/>
          </a:ln>
        </p:spPr>
      </p:pic>
      <p:pic>
        <p:nvPicPr>
          <p:cNvPr id="117" name="figura24" descr=""/>
          <p:cNvPicPr/>
          <p:nvPr/>
        </p:nvPicPr>
        <p:blipFill>
          <a:blip r:embed="rId4"/>
          <a:stretch/>
        </p:blipFill>
        <p:spPr>
          <a:xfrm>
            <a:off x="11485440" y="1908000"/>
            <a:ext cx="3456000" cy="2611440"/>
          </a:xfrm>
          <a:prstGeom prst="rect">
            <a:avLst/>
          </a:prstGeom>
          <a:ln w="0">
            <a:noFill/>
          </a:ln>
        </p:spPr>
      </p:pic>
      <p:pic>
        <p:nvPicPr>
          <p:cNvPr id="118" name="figura1" descr=""/>
          <p:cNvPicPr/>
          <p:nvPr/>
        </p:nvPicPr>
        <p:blipFill>
          <a:blip r:embed="rId5"/>
          <a:stretch/>
        </p:blipFill>
        <p:spPr>
          <a:xfrm>
            <a:off x="395280" y="5724360"/>
            <a:ext cx="3529080" cy="2648160"/>
          </a:xfrm>
          <a:prstGeom prst="rect">
            <a:avLst/>
          </a:prstGeom>
          <a:ln w="0">
            <a:noFill/>
          </a:ln>
        </p:spPr>
      </p:pic>
      <p:pic>
        <p:nvPicPr>
          <p:cNvPr id="119" name="figura1" descr=""/>
          <p:cNvPicPr/>
          <p:nvPr/>
        </p:nvPicPr>
        <p:blipFill>
          <a:blip r:embed="rId6"/>
          <a:stretch/>
        </p:blipFill>
        <p:spPr>
          <a:xfrm>
            <a:off x="4068720" y="5724360"/>
            <a:ext cx="3600360" cy="270216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0" y="-299880"/>
            <a:ext cx="154814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436160" y="1024920"/>
            <a:ext cx="607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372800" y="8144640"/>
            <a:ext cx="73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427640" y="4861080"/>
            <a:ext cx="1873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51560" rIns="151560" tIns="75960" bIns="75960" anchor="t">
            <a:normAutofit/>
          </a:bodyPr>
          <a:p>
            <a:pPr marL="568440" indent="-5684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1517760"/>
                <a:tab algn="l" pos="3035160"/>
                <a:tab algn="l" pos="4552920"/>
                <a:tab algn="l" pos="6070680"/>
                <a:tab algn="l" pos="7588080"/>
                <a:tab algn="l" pos="9105840"/>
                <a:tab algn="l" pos="106236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宋体"/>
              </a:rPr>
              <a:t>Esquer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8440" indent="-5684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517760"/>
                <a:tab algn="l" pos="3035160"/>
                <a:tab algn="l" pos="4552920"/>
                <a:tab algn="l" pos="6070680"/>
                <a:tab algn="l" pos="7588080"/>
                <a:tab algn="l" pos="9105840"/>
                <a:tab algn="l" pos="10623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9109080" y="4932360"/>
            <a:ext cx="1873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51560" rIns="151560" tIns="75960" bIns="75960" anchor="t">
            <a:normAutofit/>
          </a:bodyPr>
          <a:p>
            <a:pPr marL="568440" indent="-5684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1517760"/>
                <a:tab algn="l" pos="3035160"/>
                <a:tab algn="l" pos="4552920"/>
                <a:tab algn="l" pos="6070680"/>
                <a:tab algn="l" pos="7588080"/>
                <a:tab algn="l" pos="9105840"/>
                <a:tab algn="l" pos="106236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宋体"/>
              </a:rPr>
              <a:t>Lin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8440" indent="-5684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517760"/>
                <a:tab algn="l" pos="3035160"/>
                <a:tab algn="l" pos="4552920"/>
                <a:tab algn="l" pos="6070680"/>
                <a:tab algn="l" pos="7588080"/>
                <a:tab algn="l" pos="9105840"/>
                <a:tab algn="l" pos="10623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828720" y="8821800"/>
            <a:ext cx="1873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51560" rIns="151560" tIns="75960" bIns="75960" anchor="t">
            <a:normAutofit/>
          </a:bodyPr>
          <a:p>
            <a:pPr marL="568440" indent="-5684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1517760"/>
                <a:tab algn="l" pos="3035160"/>
                <a:tab algn="l" pos="4552920"/>
                <a:tab algn="l" pos="6070680"/>
                <a:tab algn="l" pos="7588080"/>
                <a:tab algn="l" pos="9105840"/>
                <a:tab algn="l" pos="106236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宋体"/>
              </a:rPr>
              <a:t>Fr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8440" indent="-5684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517760"/>
                <a:tab algn="l" pos="3035160"/>
                <a:tab algn="l" pos="4552920"/>
                <a:tab algn="l" pos="6070680"/>
                <a:tab algn="l" pos="7588080"/>
                <a:tab algn="l" pos="9105840"/>
                <a:tab algn="l" pos="10623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187280" y="4932360"/>
            <a:ext cx="18734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51560" rIns="151560" tIns="75960" bIns="75960" anchor="t">
            <a:normAutofit/>
          </a:bodyPr>
          <a:p>
            <a:pPr marL="568440" indent="-5684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1517760"/>
                <a:tab algn="l" pos="3035160"/>
                <a:tab algn="l" pos="4552920"/>
                <a:tab algn="l" pos="6070680"/>
                <a:tab algn="l" pos="7588080"/>
                <a:tab algn="l" pos="9105840"/>
                <a:tab algn="l" pos="106236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宋体"/>
              </a:rPr>
              <a:t>Direi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8440" indent="-5684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517760"/>
                <a:tab algn="l" pos="3035160"/>
                <a:tab algn="l" pos="4552920"/>
                <a:tab algn="l" pos="6070680"/>
                <a:tab algn="l" pos="7588080"/>
                <a:tab algn="l" pos="9105840"/>
                <a:tab algn="l" pos="10623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2349080" y="4861080"/>
            <a:ext cx="18734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51560" rIns="151560" tIns="75960" bIns="75960" anchor="t">
            <a:normAutofit/>
          </a:bodyPr>
          <a:p>
            <a:pPr marL="568440" indent="-5684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1517760"/>
                <a:tab algn="l" pos="3035160"/>
                <a:tab algn="l" pos="4552920"/>
                <a:tab algn="l" pos="6070680"/>
                <a:tab algn="l" pos="7588080"/>
                <a:tab algn="l" pos="9105840"/>
                <a:tab algn="l" pos="106236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宋体"/>
              </a:rPr>
              <a:t>Pa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8440" indent="-5684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517760"/>
                <a:tab algn="l" pos="3035160"/>
                <a:tab algn="l" pos="4552920"/>
                <a:tab algn="l" pos="6070680"/>
                <a:tab algn="l" pos="7588080"/>
                <a:tab algn="l" pos="9105840"/>
                <a:tab algn="l" pos="10623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9685440" y="5797440"/>
            <a:ext cx="34210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51560" rIns="151560" tIns="75960" bIns="75960" anchor="t">
            <a:normAutofit/>
          </a:bodyPr>
          <a:p>
            <a:pPr marL="568440" indent="-5684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1517760"/>
                <a:tab algn="l" pos="3035160"/>
                <a:tab algn="l" pos="4552920"/>
                <a:tab algn="l" pos="6070680"/>
                <a:tab algn="l" pos="7588080"/>
                <a:tab algn="l" pos="9105840"/>
                <a:tab algn="l" pos="106236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宋体"/>
              </a:rPr>
              <a:t>Tempo = 0.5 se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8440" indent="-5684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1517760"/>
                <a:tab algn="l" pos="3035160"/>
                <a:tab algn="l" pos="4552920"/>
                <a:tab algn="l" pos="6070680"/>
                <a:tab algn="l" pos="7588080"/>
                <a:tab algn="l" pos="9105840"/>
                <a:tab algn="l" pos="106236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宋体"/>
              </a:rPr>
              <a:t>Numero am.=40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8440" indent="-5684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517760"/>
                <a:tab algn="l" pos="3035160"/>
                <a:tab algn="l" pos="4552920"/>
                <a:tab algn="l" pos="6070680"/>
                <a:tab algn="l" pos="7588080"/>
                <a:tab algn="l" pos="9105840"/>
                <a:tab algn="l" pos="10623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7"/>
          <a:stretch/>
        </p:blipFill>
        <p:spPr>
          <a:xfrm>
            <a:off x="7885080" y="6948360"/>
            <a:ext cx="712944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eaeae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4720" y="388440"/>
            <a:ext cx="13932000" cy="1621080"/>
          </a:xfrm>
          <a:prstGeom prst="rect">
            <a:avLst/>
          </a:prstGeom>
          <a:noFill/>
          <a:ln w="0">
            <a:noFill/>
          </a:ln>
        </p:spPr>
        <p:txBody>
          <a:bodyPr lIns="151560" rIns="151560" tIns="75960" bIns="75960" anchor="ctr">
            <a:noAutofit/>
          </a:bodyPr>
          <a:p>
            <a:pPr indent="0" algn="ctr">
              <a:buNone/>
              <a:tabLst>
                <a:tab algn="l" pos="0"/>
                <a:tab algn="l" pos="1517760"/>
                <a:tab algn="l" pos="3035160"/>
                <a:tab algn="l" pos="4552920"/>
                <a:tab algn="l" pos="6070680"/>
                <a:tab algn="l" pos="7588080"/>
                <a:tab algn="l" pos="9105840"/>
                <a:tab algn="l" pos="10623600"/>
              </a:tabLst>
            </a:pPr>
            <a:r>
              <a:rPr b="0" lang="pt-BR" sz="7200" spc="-1" strike="noStrike">
                <a:solidFill>
                  <a:srgbClr val="cc3300"/>
                </a:solidFill>
                <a:latin typeface="Arial"/>
                <a:ea typeface="宋体"/>
              </a:rPr>
              <a:t>Bancos de Filtros Mel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74720" y="2266560"/>
            <a:ext cx="13932000" cy="2089080"/>
          </a:xfrm>
          <a:prstGeom prst="rect">
            <a:avLst/>
          </a:prstGeom>
          <a:noFill/>
          <a:ln w="0">
            <a:noFill/>
          </a:ln>
        </p:spPr>
        <p:txBody>
          <a:bodyPr lIns="151560" rIns="151560" tIns="75960" bIns="75960" anchor="t">
            <a:normAutofit/>
          </a:bodyPr>
          <a:p>
            <a:pPr marL="568440" indent="-568440"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1517760"/>
                <a:tab algn="l" pos="3035160"/>
                <a:tab algn="l" pos="4552920"/>
                <a:tab algn="l" pos="6070680"/>
                <a:tab algn="l" pos="7588080"/>
                <a:tab algn="l" pos="9105840"/>
                <a:tab algn="l" pos="10623600"/>
              </a:tabLst>
            </a:pPr>
            <a:r>
              <a:rPr b="0" lang="pt-BR" sz="3800" spc="-1" strike="noStrike">
                <a:solidFill>
                  <a:srgbClr val="000000"/>
                </a:solidFill>
                <a:latin typeface="Arial"/>
                <a:ea typeface="宋体"/>
              </a:rPr>
              <a:t>Uma alternativa para a análise espectral, em sistemas de reconhecimento de voz, é utilizar a saída de um banco de filtros passa-bandas espaçados linearmente na escala mel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572000" y="4284720"/>
            <a:ext cx="6334200" cy="47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eaeae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74720" y="388440"/>
            <a:ext cx="13932000" cy="1621080"/>
          </a:xfrm>
          <a:prstGeom prst="rect">
            <a:avLst/>
          </a:prstGeom>
          <a:noFill/>
          <a:ln w="0">
            <a:noFill/>
          </a:ln>
        </p:spPr>
        <p:txBody>
          <a:bodyPr lIns="151560" rIns="151560" tIns="75960" bIns="75960" anchor="ctr">
            <a:noAutofit/>
          </a:bodyPr>
          <a:p>
            <a:pPr indent="0" algn="ctr">
              <a:buNone/>
              <a:tabLst>
                <a:tab algn="l" pos="0"/>
                <a:tab algn="l" pos="1517760"/>
                <a:tab algn="l" pos="3035160"/>
                <a:tab algn="l" pos="4552920"/>
                <a:tab algn="l" pos="6070680"/>
                <a:tab algn="l" pos="7588080"/>
                <a:tab algn="l" pos="9105840"/>
                <a:tab algn="l" pos="10623600"/>
              </a:tabLst>
            </a:pPr>
            <a:r>
              <a:rPr b="0" lang="pt-BR" sz="7200" spc="-1" strike="noStrike">
                <a:solidFill>
                  <a:srgbClr val="cc3300"/>
                </a:solidFill>
                <a:latin typeface="Arial"/>
                <a:ea typeface="宋体"/>
              </a:rPr>
              <a:t>Coeficientes Mel-Cepstrais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774720" y="2266920"/>
            <a:ext cx="13932000" cy="1225440"/>
          </a:xfrm>
          <a:prstGeom prst="rect">
            <a:avLst/>
          </a:prstGeom>
          <a:noFill/>
          <a:ln w="0">
            <a:noFill/>
          </a:ln>
        </p:spPr>
        <p:txBody>
          <a:bodyPr lIns="151560" rIns="151560" tIns="75960" bIns="75960" anchor="t">
            <a:normAutofit/>
          </a:bodyPr>
          <a:p>
            <a:pPr marL="568440" indent="-56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517760"/>
                <a:tab algn="l" pos="3035160"/>
                <a:tab algn="l" pos="4552920"/>
                <a:tab algn="l" pos="6070680"/>
                <a:tab algn="l" pos="7588080"/>
                <a:tab algn="l" pos="9105840"/>
                <a:tab algn="l" pos="106236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  <a:ea typeface="宋体"/>
              </a:rPr>
              <a:t>Os coeficientes Mel Cepstrais são uma combinação da análise psicoacústica na escala mel com a análise cepstral ( cepstro=IDFT( log(DFT)) 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68440" indent="0">
              <a:spcBef>
                <a:spcPts val="751"/>
              </a:spcBef>
              <a:buNone/>
              <a:tabLst>
                <a:tab algn="l" pos="1517760"/>
                <a:tab algn="l" pos="3035160"/>
                <a:tab algn="l" pos="4552920"/>
                <a:tab algn="l" pos="6070680"/>
                <a:tab algn="l" pos="7588080"/>
                <a:tab algn="l" pos="9105840"/>
                <a:tab algn="l" pos="10623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162440" y="3629880"/>
            <a:ext cx="8058240" cy="1461960"/>
            <a:chOff x="1162440" y="3629880"/>
            <a:chExt cx="8058240" cy="1461960"/>
          </a:xfrm>
        </p:grpSpPr>
        <p:sp>
          <p:nvSpPr>
            <p:cNvPr id="136" name=""/>
            <p:cNvSpPr/>
            <p:nvPr/>
          </p:nvSpPr>
          <p:spPr>
            <a:xfrm>
              <a:off x="4021920" y="3629880"/>
              <a:ext cx="2079000" cy="417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1517760"/>
                  <a:tab algn="l" pos="3035160"/>
                  <a:tab algn="l" pos="4552920"/>
                  <a:tab algn="l" pos="6070680"/>
                  <a:tab algn="l" pos="7588080"/>
                  <a:tab algn="l" pos="9105840"/>
                  <a:tab algn="l" pos="106236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Arial"/>
                </a:rPr>
                <a:t>Janelament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621120" y="3629880"/>
              <a:ext cx="1041840" cy="417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1517760"/>
                  <a:tab algn="l" pos="3035160"/>
                  <a:tab algn="l" pos="4552920"/>
                  <a:tab algn="l" pos="6070680"/>
                  <a:tab algn="l" pos="7588080"/>
                  <a:tab algn="l" pos="9105840"/>
                  <a:tab algn="l" pos="106236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Arial"/>
                </a:rPr>
                <a:t>DF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100920" y="4672800"/>
              <a:ext cx="3119760" cy="417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1517760"/>
                  <a:tab algn="l" pos="3035160"/>
                  <a:tab algn="l" pos="4552920"/>
                  <a:tab algn="l" pos="6070680"/>
                  <a:tab algn="l" pos="7588080"/>
                  <a:tab algn="l" pos="9105840"/>
                  <a:tab algn="l" pos="106236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Arial"/>
                </a:rPr>
                <a:t>Banco de Filtros Me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541760" y="4672800"/>
              <a:ext cx="1038600" cy="419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1517760"/>
                  <a:tab algn="l" pos="3035160"/>
                  <a:tab algn="l" pos="4552920"/>
                  <a:tab algn="l" pos="6070680"/>
                  <a:tab algn="l" pos="7588080"/>
                  <a:tab algn="l" pos="9105840"/>
                  <a:tab algn="l" pos="106236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Arial"/>
                </a:rPr>
                <a:t>Lo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981160" y="4672800"/>
              <a:ext cx="1040400" cy="417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1517760"/>
                  <a:tab algn="l" pos="3035160"/>
                  <a:tab algn="l" pos="4552920"/>
                  <a:tab algn="l" pos="6070680"/>
                  <a:tab algn="l" pos="7588080"/>
                  <a:tab algn="l" pos="9105840"/>
                  <a:tab algn="l" pos="106236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Arial"/>
                </a:rPr>
                <a:t>IDC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422360" y="3629880"/>
              <a:ext cx="2079000" cy="417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1517760"/>
                  <a:tab algn="l" pos="3035160"/>
                  <a:tab algn="l" pos="4552920"/>
                  <a:tab algn="l" pos="6070680"/>
                  <a:tab algn="l" pos="7588080"/>
                  <a:tab algn="l" pos="9105840"/>
                  <a:tab algn="l" pos="106236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Arial"/>
                </a:rPr>
                <a:t>Sinal de voz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162440" y="4672800"/>
              <a:ext cx="1298880" cy="417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1517760"/>
                  <a:tab algn="l" pos="3035160"/>
                  <a:tab algn="l" pos="4552920"/>
                  <a:tab algn="l" pos="6070680"/>
                  <a:tab algn="l" pos="7588080"/>
                  <a:tab algn="l" pos="9105840"/>
                  <a:tab algn="l" pos="106236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Arial"/>
                </a:rPr>
                <a:t>MFC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01360" y="3838680"/>
              <a:ext cx="52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100920" y="3838680"/>
              <a:ext cx="52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661880" y="3838680"/>
              <a:ext cx="519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8181720" y="3838680"/>
              <a:ext cx="0" cy="83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 flipH="1">
              <a:off x="5580720" y="4881600"/>
              <a:ext cx="519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 flipH="1">
              <a:off x="4021920" y="4881600"/>
              <a:ext cx="519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 flipH="1">
              <a:off x="2461320" y="4881600"/>
              <a:ext cx="519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"/>
          <p:cNvSpPr/>
          <p:nvPr/>
        </p:nvSpPr>
        <p:spPr>
          <a:xfrm>
            <a:off x="755640" y="6084720"/>
            <a:ext cx="6480360" cy="324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51560" rIns="151560" tIns="75960" bIns="75960" anchor="t">
            <a:normAutofit/>
          </a:bodyPr>
          <a:p>
            <a:pPr marL="568440" indent="-56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517760"/>
                <a:tab algn="l" pos="3035160"/>
                <a:tab algn="l" pos="4552920"/>
                <a:tab algn="l" pos="6070680"/>
                <a:tab algn="l" pos="7588080"/>
                <a:tab algn="l" pos="9105840"/>
                <a:tab algn="l" pos="106236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  <a:ea typeface="宋体"/>
              </a:rPr>
              <a:t>Os coeficientes mel cepstrais dão uma idéia de energia ao longo do tempo, dividida em freqüência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3490920"/>
            <a:ext cx="154814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8461440" y="5076720"/>
          <a:ext cx="7016760" cy="4318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61440" y="5076720"/>
                    <a:ext cx="7016760" cy="431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eaeae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700000" y="324000"/>
            <a:ext cx="10566360" cy="1620720"/>
          </a:xfrm>
          <a:prstGeom prst="rect">
            <a:avLst/>
          </a:prstGeom>
          <a:noFill/>
          <a:ln w="0">
            <a:noFill/>
          </a:ln>
        </p:spPr>
        <p:txBody>
          <a:bodyPr lIns="151560" rIns="151560" tIns="75960" bIns="75960" anchor="ctr">
            <a:noAutofit/>
          </a:bodyPr>
          <a:p>
            <a:pPr indent="0" algn="ctr">
              <a:buNone/>
              <a:tabLst>
                <a:tab algn="l" pos="0"/>
                <a:tab algn="l" pos="1517760"/>
                <a:tab algn="l" pos="3035160"/>
                <a:tab algn="l" pos="4552920"/>
                <a:tab algn="l" pos="6070680"/>
                <a:tab algn="l" pos="7588080"/>
                <a:tab algn="l" pos="9105840"/>
                <a:tab algn="l" pos="10623600"/>
              </a:tabLst>
            </a:pPr>
            <a:r>
              <a:rPr b="0" lang="pt-BR" sz="6600" spc="-1" strike="noStrike">
                <a:solidFill>
                  <a:srgbClr val="cc3300"/>
                </a:solidFill>
                <a:latin typeface="Arial"/>
                <a:ea typeface="宋体"/>
              </a:rPr>
              <a:t>Detalhamento dos Coeficientes Mel-Cepstrais</a:t>
            </a:r>
            <a:r>
              <a:rPr b="0" lang="en-US" sz="6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560960" y="2548800"/>
            <a:ext cx="8058240" cy="1461960"/>
            <a:chOff x="1560960" y="2548800"/>
            <a:chExt cx="8058240" cy="1461960"/>
          </a:xfrm>
        </p:grpSpPr>
        <p:sp>
          <p:nvSpPr>
            <p:cNvPr id="156" name=""/>
            <p:cNvSpPr/>
            <p:nvPr/>
          </p:nvSpPr>
          <p:spPr>
            <a:xfrm>
              <a:off x="4420440" y="2548800"/>
              <a:ext cx="2079000" cy="417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1517760"/>
                  <a:tab algn="l" pos="3035160"/>
                  <a:tab algn="l" pos="4552920"/>
                  <a:tab algn="l" pos="6070680"/>
                  <a:tab algn="l" pos="7588080"/>
                  <a:tab algn="l" pos="9105840"/>
                  <a:tab algn="l" pos="106236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Arial"/>
                </a:rPr>
                <a:t>Janelament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019640" y="2548800"/>
              <a:ext cx="1041840" cy="417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1517760"/>
                  <a:tab algn="l" pos="3035160"/>
                  <a:tab algn="l" pos="4552920"/>
                  <a:tab algn="l" pos="6070680"/>
                  <a:tab algn="l" pos="7588080"/>
                  <a:tab algn="l" pos="9105840"/>
                  <a:tab algn="l" pos="106236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Arial"/>
                </a:rPr>
                <a:t>DF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499440" y="3591720"/>
              <a:ext cx="3119760" cy="417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1517760"/>
                  <a:tab algn="l" pos="3035160"/>
                  <a:tab algn="l" pos="4552920"/>
                  <a:tab algn="l" pos="6070680"/>
                  <a:tab algn="l" pos="7588080"/>
                  <a:tab algn="l" pos="9105840"/>
                  <a:tab algn="l" pos="106236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Arial"/>
                </a:rPr>
                <a:t>Banco de Filtros Me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940280" y="3591720"/>
              <a:ext cx="1038600" cy="419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1517760"/>
                  <a:tab algn="l" pos="3035160"/>
                  <a:tab algn="l" pos="4552920"/>
                  <a:tab algn="l" pos="6070680"/>
                  <a:tab algn="l" pos="7588080"/>
                  <a:tab algn="l" pos="9105840"/>
                  <a:tab algn="l" pos="106236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Arial"/>
                </a:rPr>
                <a:t>Lo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379680" y="3591720"/>
              <a:ext cx="1040400" cy="417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1517760"/>
                  <a:tab algn="l" pos="3035160"/>
                  <a:tab algn="l" pos="4552920"/>
                  <a:tab algn="l" pos="6070680"/>
                  <a:tab algn="l" pos="7588080"/>
                  <a:tab algn="l" pos="9105840"/>
                  <a:tab algn="l" pos="106236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Arial"/>
                </a:rPr>
                <a:t>IDC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820880" y="2548800"/>
              <a:ext cx="2079000" cy="417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1517760"/>
                  <a:tab algn="l" pos="3035160"/>
                  <a:tab algn="l" pos="4552920"/>
                  <a:tab algn="l" pos="6070680"/>
                  <a:tab algn="l" pos="7588080"/>
                  <a:tab algn="l" pos="9105840"/>
                  <a:tab algn="l" pos="106236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Arial"/>
                </a:rPr>
                <a:t>Sinal de voz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560960" y="3591720"/>
              <a:ext cx="1298880" cy="417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1517760"/>
                  <a:tab algn="l" pos="3035160"/>
                  <a:tab algn="l" pos="4552920"/>
                  <a:tab algn="l" pos="6070680"/>
                  <a:tab algn="l" pos="7588080"/>
                  <a:tab algn="l" pos="9105840"/>
                  <a:tab algn="l" pos="106236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Arial"/>
                </a:rPr>
                <a:t>MFC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899880" y="2757600"/>
              <a:ext cx="52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499440" y="2757600"/>
              <a:ext cx="52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060400" y="2757600"/>
              <a:ext cx="519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580240" y="2757600"/>
              <a:ext cx="0" cy="83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5979240" y="3800520"/>
              <a:ext cx="519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4420440" y="3800520"/>
              <a:ext cx="519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859840" y="3800520"/>
              <a:ext cx="519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1044720" y="4645080"/>
            <a:ext cx="669600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51560" rIns="151560" tIns="75960" bIns="75960" anchor="t">
            <a:normAutofit/>
          </a:bodyPr>
          <a:p>
            <a:pPr marL="568440" indent="-56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517760"/>
                <a:tab algn="l" pos="3035160"/>
                <a:tab algn="l" pos="4552920"/>
                <a:tab algn="l" pos="6070680"/>
                <a:tab algn="l" pos="7588080"/>
                <a:tab algn="l" pos="9105840"/>
                <a:tab algn="l" pos="106236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  <a:ea typeface="宋体"/>
              </a:rPr>
              <a:t>Janelas de Hamming de 256 pontos sem overlap, totalizando 16 janelas do sin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68440" indent="-56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517760"/>
                <a:tab algn="l" pos="3035160"/>
                <a:tab algn="l" pos="4552920"/>
                <a:tab algn="l" pos="6070680"/>
                <a:tab algn="l" pos="7588080"/>
                <a:tab algn="l" pos="9105840"/>
                <a:tab algn="l" pos="106236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  <a:ea typeface="宋体"/>
              </a:rPr>
              <a:t>Banco de Filtros espacados em 100 mel, totalizando 21 filtr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68440" indent="-56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517760"/>
                <a:tab algn="l" pos="3035160"/>
                <a:tab algn="l" pos="4552920"/>
                <a:tab algn="l" pos="6070680"/>
                <a:tab algn="l" pos="7588080"/>
                <a:tab algn="l" pos="9105840"/>
                <a:tab algn="l" pos="106236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  <a:ea typeface="宋体"/>
              </a:rPr>
              <a:t>MFCC resultante: matriz de 16 linhas por 21 coluna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3490920"/>
            <a:ext cx="154814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8461440" y="5076720"/>
          <a:ext cx="7016760" cy="4318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61440" y="5076720"/>
                    <a:ext cx="7016760" cy="431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eaeae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74720" y="388440"/>
            <a:ext cx="13932000" cy="1621080"/>
          </a:xfrm>
          <a:prstGeom prst="rect">
            <a:avLst/>
          </a:prstGeom>
          <a:noFill/>
          <a:ln w="0">
            <a:noFill/>
          </a:ln>
        </p:spPr>
        <p:txBody>
          <a:bodyPr lIns="151560" rIns="151560" tIns="75960" bIns="75960" anchor="ctr">
            <a:noAutofit/>
          </a:bodyPr>
          <a:p>
            <a:pPr indent="0" algn="ctr">
              <a:buNone/>
              <a:tabLst>
                <a:tab algn="l" pos="0"/>
                <a:tab algn="l" pos="1517760"/>
                <a:tab algn="l" pos="3035160"/>
                <a:tab algn="l" pos="4552920"/>
                <a:tab algn="l" pos="6070680"/>
                <a:tab algn="l" pos="7588080"/>
                <a:tab algn="l" pos="9105840"/>
                <a:tab algn="l" pos="10623600"/>
              </a:tabLst>
            </a:pPr>
            <a:r>
              <a:rPr b="0" lang="pt-BR" sz="7200" spc="-1" strike="noStrike">
                <a:solidFill>
                  <a:srgbClr val="cc3300"/>
                </a:solidFill>
                <a:latin typeface="Arial"/>
                <a:ea typeface="宋体"/>
              </a:rPr>
              <a:t>Comparação com padrões</a:t>
            </a:r>
            <a:r>
              <a:rPr b="0" lang="pt-BR" sz="7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260360" y="2340000"/>
            <a:ext cx="13932000" cy="1225440"/>
          </a:xfrm>
          <a:prstGeom prst="rect">
            <a:avLst/>
          </a:prstGeom>
          <a:noFill/>
          <a:ln w="0">
            <a:noFill/>
          </a:ln>
        </p:spPr>
        <p:txBody>
          <a:bodyPr lIns="151560" rIns="151560" tIns="75960" bIns="75960" anchor="t">
            <a:normAutofit/>
          </a:bodyPr>
          <a:p>
            <a:pPr marL="568440" indent="-56844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1517760"/>
                <a:tab algn="l" pos="3035160"/>
                <a:tab algn="l" pos="4552920"/>
                <a:tab algn="l" pos="6070680"/>
                <a:tab algn="l" pos="7588080"/>
                <a:tab algn="l" pos="9105840"/>
                <a:tab algn="l" pos="106236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  <a:ea typeface="宋体"/>
              </a:rPr>
              <a:t>Para comparar as falas com os padrões e utilizado a função matemática correlação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4475160"/>
            <a:ext cx="154814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2627280" y="3924360"/>
                <a:ext cx="3564000" cy="185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n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X</m:t>
                                        </m:r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n</m:t>
                                        </m:r>
                                        <m:r>
                                          <m:t xml:space="preserve">)</m:t>
                                        </m:r>
                                        <m:r>
                                          <m:t xml:space="preserve">−</m:t>
                                        </m:r>
                                        <m:limUpp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lim/>
                                        </m:limUpp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78" name=""/>
          <p:cNvSpPr/>
          <p:nvPr/>
        </p:nvSpPr>
        <p:spPr>
          <a:xfrm>
            <a:off x="0" y="4465800"/>
            <a:ext cx="154814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7453440" y="3708360"/>
                <a:ext cx="6264000" cy="217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y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n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n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−</m:t>
                                </m:r>
                                <m:limUpp>
                                  <m:e>
                                    <m:r>
                                      <m:t xml:space="preserve">x</m:t>
                                    </m:r>
                                  </m:e>
                                  <m:lim/>
                                </m:limUpp>
                              </m:e>
                            </m:d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y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n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−</m:t>
                                </m:r>
                                <m:limUpp>
                                  <m:e>
                                    <m:r>
                                      <m:t xml:space="preserve">y</m:t>
                                    </m:r>
                                  </m:e>
                                  <m:lim/>
                                </m:limUpp>
                              </m:e>
                            </m:d>
                          </m:e>
                        </m:nary>
                      </m:num>
                      <m:den>
                        <m:r>
                          <m:t xml:space="preserve">n</m:t>
                        </m:r>
                        <m:r>
                          <m:t xml:space="preserve">×</m:t>
                        </m:r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×</m:t>
                        </m:r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0" name=""/>
          <p:cNvSpPr/>
          <p:nvPr/>
        </p:nvSpPr>
        <p:spPr>
          <a:xfrm>
            <a:off x="2556000" y="6156360"/>
            <a:ext cx="439092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51560" rIns="151560" tIns="75960" bIns="75960" anchor="t">
            <a:normAutofit fontScale="92000"/>
          </a:bodyPr>
          <a:p>
            <a:pPr marL="522720" indent="-522720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1517760"/>
                <a:tab algn="l" pos="3035160"/>
                <a:tab algn="l" pos="4552920"/>
                <a:tab algn="l" pos="6070680"/>
                <a:tab algn="l" pos="7588080"/>
                <a:tab algn="l" pos="9105840"/>
                <a:tab algn="l" pos="106236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  <a:ea typeface="宋体"/>
              </a:rPr>
              <a:t>Desvio padrão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9325080" y="6156360"/>
            <a:ext cx="439092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51560" rIns="151560" tIns="75960" bIns="75960" anchor="t">
            <a:normAutofit fontScale="92000"/>
          </a:bodyPr>
          <a:p>
            <a:pPr marL="522720" indent="-522720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1517760"/>
                <a:tab algn="l" pos="3035160"/>
                <a:tab algn="l" pos="4552920"/>
                <a:tab algn="l" pos="6070680"/>
                <a:tab algn="l" pos="7588080"/>
                <a:tab algn="l" pos="9105840"/>
                <a:tab algn="l" pos="106236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  <a:ea typeface="宋体"/>
              </a:rPr>
              <a:t>Correlação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260360" y="7669080"/>
            <a:ext cx="13932000" cy="12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51560" rIns="151560" tIns="75960" bIns="75960" anchor="t">
            <a:normAutofit fontScale="73000"/>
          </a:bodyPr>
          <a:p>
            <a:pPr marL="414720" indent="-41472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1517760"/>
                <a:tab algn="l" pos="3035160"/>
                <a:tab algn="l" pos="4552920"/>
                <a:tab algn="l" pos="6070680"/>
                <a:tab algn="l" pos="7588080"/>
                <a:tab algn="l" pos="9105840"/>
                <a:tab algn="l" pos="106236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  <a:ea typeface="宋体"/>
              </a:rPr>
              <a:t>Num primeiro momento foi feito um programa que tinha que ter 10 padrões para cada palavra para que fosse mais eficaz o reconhecimen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eaeae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74720" y="388440"/>
            <a:ext cx="13932000" cy="1621080"/>
          </a:xfrm>
          <a:prstGeom prst="rect">
            <a:avLst/>
          </a:prstGeom>
          <a:noFill/>
          <a:ln w="0">
            <a:noFill/>
          </a:ln>
        </p:spPr>
        <p:txBody>
          <a:bodyPr lIns="151560" rIns="151560" tIns="75960" bIns="75960" anchor="ctr">
            <a:noAutofit/>
          </a:bodyPr>
          <a:p>
            <a:pPr indent="0" algn="ctr">
              <a:buNone/>
              <a:tabLst>
                <a:tab algn="l" pos="0"/>
                <a:tab algn="l" pos="1517760"/>
                <a:tab algn="l" pos="3035160"/>
                <a:tab algn="l" pos="4552920"/>
                <a:tab algn="l" pos="6070680"/>
                <a:tab algn="l" pos="7588080"/>
                <a:tab algn="l" pos="9105840"/>
                <a:tab algn="l" pos="10623600"/>
              </a:tabLst>
            </a:pPr>
            <a:r>
              <a:rPr b="0" lang="pt-BR" sz="7200" spc="-1" strike="noStrike">
                <a:solidFill>
                  <a:srgbClr val="cc3300"/>
                </a:solidFill>
                <a:latin typeface="Arial"/>
                <a:ea typeface="宋体"/>
              </a:rPr>
              <a:t>Comparação com parâmetros</a:t>
            </a:r>
            <a:r>
              <a:rPr b="0" lang="pt-BR" sz="7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4475160"/>
            <a:ext cx="154814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4465800"/>
            <a:ext cx="154814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221440" y="45734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39640" y="2700360"/>
            <a:ext cx="2735280" cy="1068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Aquisição da placa de s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11640" y="2700360"/>
            <a:ext cx="3529080" cy="1068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Pré-tratamento do sinal de áud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8459640" y="2700360"/>
            <a:ext cx="4897440" cy="1068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tração dos coeficientes Mel-Cepstra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9110520" y="4645080"/>
            <a:ext cx="4102200" cy="10688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Comparação com padrões (60 comp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284720" y="4645080"/>
            <a:ext cx="3529080" cy="1556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Mostrar na tela e envia comando para ser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274920" y="320508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7740720" y="320508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0693440" y="385272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H="1">
            <a:off x="7813800" y="5148360"/>
            <a:ext cx="129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68360" y="7308720"/>
            <a:ext cx="2735280" cy="1068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Aquisição da placa de s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140360" y="7308720"/>
            <a:ext cx="3528720" cy="1068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Pré-tratamento do sinal de áud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8388360" y="7308720"/>
            <a:ext cx="4897440" cy="1068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tração dos coeficientes Mel-Cepstra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203640" y="781380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7669080" y="78138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10909440" y="5797440"/>
            <a:ext cx="0" cy="151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11280" y="3924360"/>
            <a:ext cx="266544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51560" rIns="151560" tIns="75960" bIns="75960" anchor="t">
            <a:normAutofit fontScale="92000"/>
          </a:bodyPr>
          <a:p>
            <a:pPr marL="522720" indent="-522720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1517760"/>
                <a:tab algn="l" pos="3035160"/>
                <a:tab algn="l" pos="4552920"/>
                <a:tab algn="l" pos="6070680"/>
                <a:tab algn="l" pos="7588080"/>
                <a:tab algn="l" pos="9105840"/>
                <a:tab algn="l" pos="106236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  <a:ea typeface="宋体"/>
              </a:rPr>
              <a:t>Padrõ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1280" y="6373800"/>
            <a:ext cx="266544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51560" rIns="151560" tIns="75960" bIns="75960" anchor="t">
            <a:normAutofit fontScale="92000"/>
          </a:bodyPr>
          <a:p>
            <a:pPr marL="522720" indent="-522720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1517760"/>
                <a:tab algn="l" pos="3035160"/>
                <a:tab algn="l" pos="4552920"/>
                <a:tab algn="l" pos="6070680"/>
                <a:tab algn="l" pos="7588080"/>
                <a:tab algn="l" pos="9105840"/>
                <a:tab algn="l" pos="106236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  <a:ea typeface="宋体"/>
              </a:rPr>
              <a:t>Amost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eaeae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774720" y="388440"/>
            <a:ext cx="13932000" cy="1621080"/>
          </a:xfrm>
          <a:prstGeom prst="rect">
            <a:avLst/>
          </a:prstGeom>
          <a:noFill/>
          <a:ln w="0">
            <a:noFill/>
          </a:ln>
        </p:spPr>
        <p:txBody>
          <a:bodyPr lIns="151560" rIns="151560" tIns="75960" bIns="75960" anchor="ctr">
            <a:noAutofit/>
          </a:bodyPr>
          <a:p>
            <a:pPr indent="0" algn="ctr">
              <a:buNone/>
              <a:tabLst>
                <a:tab algn="l" pos="0"/>
                <a:tab algn="l" pos="1517760"/>
                <a:tab algn="l" pos="3035160"/>
                <a:tab algn="l" pos="4552920"/>
                <a:tab algn="l" pos="6070680"/>
                <a:tab algn="l" pos="7588080"/>
                <a:tab algn="l" pos="9105840"/>
                <a:tab algn="l" pos="10623600"/>
              </a:tabLst>
            </a:pPr>
            <a:r>
              <a:rPr b="0" lang="pt-BR" sz="7200" spc="-1" strike="noStrike">
                <a:solidFill>
                  <a:srgbClr val="cc3300"/>
                </a:solidFill>
                <a:latin typeface="Arial"/>
                <a:ea typeface="宋体"/>
              </a:rPr>
              <a:t>Testes no Matlab 6</a:t>
            </a:r>
            <a:r>
              <a:rPr b="0" lang="pt-BR" sz="7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0" y="4475160"/>
            <a:ext cx="154814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4465800"/>
            <a:ext cx="154814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971640" y="2124000"/>
          <a:ext cx="13735080" cy="2292480"/>
        </p:xfrm>
        <a:graphic>
          <a:graphicData uri="http://schemas.openxmlformats.org/drawingml/2006/table">
            <a:tbl>
              <a:tblPr/>
              <a:tblGrid>
                <a:gridCol w="2986200"/>
                <a:gridCol w="2273040"/>
                <a:gridCol w="2028960"/>
                <a:gridCol w="2263680"/>
                <a:gridCol w="2090880"/>
                <a:gridCol w="2092320"/>
              </a:tblGrid>
              <a:tr h="885600">
                <a:tc gridSpan="6">
                  <a:txBody>
                    <a:bodyPr lIns="90000" rIns="90000" tIns="46800" bIns="46800" anchor="b">
                      <a:noAutofit/>
                    </a:bodyPr>
                    <a:p>
                      <a:pPr marL="568440" indent="-568440" algn="ctr">
                        <a:tabLst>
                          <a:tab algn="l" pos="0"/>
                          <a:tab algn="l" pos="1517760"/>
                          <a:tab algn="l" pos="3035160"/>
                          <a:tab algn="l" pos="4552920"/>
                          <a:tab algn="l" pos="6070680"/>
                          <a:tab algn="l" pos="7588080"/>
                          <a:tab algn="l" pos="9105840"/>
                          <a:tab algn="l" pos="106236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ultado para 50 amostras de cada palavra / dias distintos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3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568440" indent="-568440">
                        <a:tabLst>
                          <a:tab algn="l" pos="0"/>
                          <a:tab algn="l" pos="1517760"/>
                          <a:tab algn="l" pos="3035160"/>
                          <a:tab algn="l" pos="4552920"/>
                          <a:tab algn="l" pos="6070680"/>
                          <a:tab algn="l" pos="7588080"/>
                          <a:tab algn="l" pos="9105840"/>
                          <a:tab algn="l" pos="106236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querda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568440" indent="-568440">
                        <a:tabLst>
                          <a:tab algn="l" pos="0"/>
                          <a:tab algn="l" pos="1517760"/>
                          <a:tab algn="l" pos="3035160"/>
                          <a:tab algn="l" pos="4552920"/>
                          <a:tab algn="l" pos="6070680"/>
                          <a:tab algn="l" pos="7588080"/>
                          <a:tab algn="l" pos="9105840"/>
                          <a:tab algn="l" pos="106236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reita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568440" indent="-568440">
                        <a:tabLst>
                          <a:tab algn="l" pos="0"/>
                          <a:tab algn="l" pos="1517760"/>
                          <a:tab algn="l" pos="3035160"/>
                          <a:tab algn="l" pos="4552920"/>
                          <a:tab algn="l" pos="6070680"/>
                          <a:tab algn="l" pos="7588080"/>
                          <a:tab algn="l" pos="9105840"/>
                          <a:tab algn="l" pos="106236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nha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568440" indent="-568440">
                        <a:tabLst>
                          <a:tab algn="l" pos="0"/>
                          <a:tab algn="l" pos="1517760"/>
                          <a:tab algn="l" pos="3035160"/>
                          <a:tab algn="l" pos="4552920"/>
                          <a:tab algn="l" pos="6070680"/>
                          <a:tab algn="l" pos="7588080"/>
                          <a:tab algn="l" pos="9105840"/>
                          <a:tab algn="l" pos="106236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ent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568440" indent="-568440">
                        <a:tabLst>
                          <a:tab algn="l" pos="0"/>
                          <a:tab algn="l" pos="1517760"/>
                          <a:tab algn="l" pos="3035160"/>
                          <a:tab algn="l" pos="4552920"/>
                          <a:tab algn="l" pos="6070680"/>
                          <a:tab algn="l" pos="7588080"/>
                          <a:tab algn="l" pos="9105840"/>
                          <a:tab algn="l" pos="106236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lta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568440" indent="-568440">
                        <a:tabLst>
                          <a:tab algn="l" pos="0"/>
                          <a:tab algn="l" pos="1517760"/>
                          <a:tab algn="l" pos="3035160"/>
                          <a:tab algn="l" pos="4552920"/>
                          <a:tab algn="l" pos="6070680"/>
                          <a:tab algn="l" pos="7588080"/>
                          <a:tab algn="l" pos="9105840"/>
                          <a:tab algn="l" pos="106236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a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568440" indent="-568440" algn="r">
                        <a:tabLst>
                          <a:tab algn="l" pos="0"/>
                          <a:tab algn="l" pos="1517760"/>
                          <a:tab algn="l" pos="3035160"/>
                          <a:tab algn="l" pos="4552920"/>
                          <a:tab algn="l" pos="6070680"/>
                          <a:tab algn="l" pos="7588080"/>
                          <a:tab algn="l" pos="9105840"/>
                          <a:tab algn="l" pos="106236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%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568440" indent="-568440" algn="r">
                        <a:tabLst>
                          <a:tab algn="l" pos="0"/>
                          <a:tab algn="l" pos="1517760"/>
                          <a:tab algn="l" pos="3035160"/>
                          <a:tab algn="l" pos="4552920"/>
                          <a:tab algn="l" pos="6070680"/>
                          <a:tab algn="l" pos="7588080"/>
                          <a:tab algn="l" pos="9105840"/>
                          <a:tab algn="l" pos="106236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568440" indent="-568440" algn="r">
                        <a:tabLst>
                          <a:tab algn="l" pos="0"/>
                          <a:tab algn="l" pos="1517760"/>
                          <a:tab algn="l" pos="3035160"/>
                          <a:tab algn="l" pos="4552920"/>
                          <a:tab algn="l" pos="6070680"/>
                          <a:tab algn="l" pos="7588080"/>
                          <a:tab algn="l" pos="9105840"/>
                          <a:tab algn="l" pos="106236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%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568440" indent="-568440" algn="r">
                        <a:tabLst>
                          <a:tab algn="l" pos="0"/>
                          <a:tab algn="l" pos="1517760"/>
                          <a:tab algn="l" pos="3035160"/>
                          <a:tab algn="l" pos="4552920"/>
                          <a:tab algn="l" pos="6070680"/>
                          <a:tab algn="l" pos="7588080"/>
                          <a:tab algn="l" pos="9105840"/>
                          <a:tab algn="l" pos="106236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6%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568440" indent="-568440" algn="r">
                        <a:tabLst>
                          <a:tab algn="l" pos="0"/>
                          <a:tab algn="l" pos="1517760"/>
                          <a:tab algn="l" pos="3035160"/>
                          <a:tab algn="l" pos="4552920"/>
                          <a:tab algn="l" pos="6070680"/>
                          <a:tab algn="l" pos="7588080"/>
                          <a:tab algn="l" pos="9105840"/>
                          <a:tab algn="l" pos="106236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568440" indent="-568440" algn="r">
                        <a:tabLst>
                          <a:tab algn="l" pos="0"/>
                          <a:tab algn="l" pos="1517760"/>
                          <a:tab algn="l" pos="3035160"/>
                          <a:tab algn="l" pos="4552920"/>
                          <a:tab algn="l" pos="6070680"/>
                          <a:tab algn="l" pos="7588080"/>
                          <a:tab algn="l" pos="9105840"/>
                          <a:tab algn="l" pos="106236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8" name=""/>
          <p:cNvSpPr/>
          <p:nvPr/>
        </p:nvSpPr>
        <p:spPr>
          <a:xfrm>
            <a:off x="971640" y="5221440"/>
            <a:ext cx="1396836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51560" rIns="151560" tIns="75960" bIns="75960" anchor="t">
            <a:normAutofit/>
          </a:bodyPr>
          <a:p>
            <a:pPr marL="568440" indent="-5684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517760"/>
                <a:tab algn="l" pos="3035160"/>
                <a:tab algn="l" pos="4552920"/>
                <a:tab algn="l" pos="6070680"/>
                <a:tab algn="l" pos="7588080"/>
                <a:tab algn="l" pos="9105840"/>
                <a:tab algn="l" pos="106236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Tempo de extração dos MFCC de uma palavra em 6 segund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044720" y="6300720"/>
            <a:ext cx="1396836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51560" rIns="151560" tIns="75960" bIns="75960" anchor="t">
            <a:normAutofit/>
          </a:bodyPr>
          <a:p>
            <a:pPr marL="568440" indent="-5684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517760"/>
                <a:tab algn="l" pos="3035160"/>
                <a:tab algn="l" pos="4552920"/>
                <a:tab algn="l" pos="6070680"/>
                <a:tab algn="l" pos="7588080"/>
                <a:tab algn="l" pos="9105840"/>
                <a:tab algn="l" pos="106236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Determinou a criação da função autoajus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eaeae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4720" y="388440"/>
            <a:ext cx="13932000" cy="1621080"/>
          </a:xfrm>
          <a:prstGeom prst="rect">
            <a:avLst/>
          </a:prstGeom>
          <a:noFill/>
          <a:ln w="0">
            <a:noFill/>
          </a:ln>
        </p:spPr>
        <p:txBody>
          <a:bodyPr lIns="151560" rIns="151560" tIns="75960" bIns="75960" anchor="ctr">
            <a:noAutofit/>
          </a:bodyPr>
          <a:p>
            <a:pPr indent="0" algn="ctr">
              <a:buNone/>
              <a:tabLst>
                <a:tab algn="l" pos="0"/>
                <a:tab algn="l" pos="1517760"/>
                <a:tab algn="l" pos="3035160"/>
                <a:tab algn="l" pos="4552920"/>
                <a:tab algn="l" pos="6070680"/>
                <a:tab algn="l" pos="7588080"/>
                <a:tab algn="l" pos="9105840"/>
                <a:tab algn="l" pos="10623600"/>
              </a:tabLst>
            </a:pPr>
            <a:r>
              <a:rPr b="0" lang="pt-BR" sz="7200" spc="-1" strike="noStrike">
                <a:solidFill>
                  <a:srgbClr val="cc3300"/>
                </a:solidFill>
                <a:latin typeface="Arial"/>
                <a:ea typeface="宋体"/>
              </a:rPr>
              <a:t>Função autoajuste</a:t>
            </a:r>
            <a:r>
              <a:rPr b="0" lang="pt-BR" sz="7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0" y="4475160"/>
            <a:ext cx="154814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0" y="4465800"/>
            <a:ext cx="154814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900000" y="2557440"/>
            <a:ext cx="1396836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51560" rIns="151560" tIns="75960" bIns="75960" anchor="t">
            <a:normAutofit/>
          </a:bodyPr>
          <a:p>
            <a:pPr marL="568440" indent="-56844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1517760"/>
                <a:tab algn="l" pos="3035160"/>
                <a:tab algn="l" pos="4552920"/>
                <a:tab algn="l" pos="6070680"/>
                <a:tab algn="l" pos="7588080"/>
                <a:tab algn="l" pos="9105840"/>
                <a:tab algn="l" pos="106236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Criada por dois motivo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900000" y="3276720"/>
            <a:ext cx="1396836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51560" rIns="151560" tIns="75960" bIns="75960" anchor="t">
            <a:normAutofit/>
          </a:bodyPr>
          <a:p>
            <a:pPr marL="568440" indent="-568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517760"/>
                <a:tab algn="l" pos="3035160"/>
                <a:tab algn="l" pos="4552920"/>
                <a:tab algn="l" pos="6070680"/>
                <a:tab algn="l" pos="7588080"/>
                <a:tab algn="l" pos="9105840"/>
                <a:tab algn="l" pos="106236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empo de respos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900000" y="3637080"/>
            <a:ext cx="1396836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51560" rIns="151560" tIns="75960" bIns="75960" anchor="t">
            <a:normAutofit/>
          </a:bodyPr>
          <a:p>
            <a:pPr marL="568440" indent="-568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517760"/>
                <a:tab algn="l" pos="3035160"/>
                <a:tab algn="l" pos="4552920"/>
                <a:tab algn="l" pos="6070680"/>
                <a:tab algn="l" pos="7588080"/>
                <a:tab algn="l" pos="9105840"/>
                <a:tab algn="l" pos="106236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lgumas palavras com baixo reconheci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971640" y="4284720"/>
            <a:ext cx="1411272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51560" rIns="151560" tIns="75960" bIns="75960" anchor="t">
            <a:normAutofit fontScale="98000"/>
          </a:bodyPr>
          <a:p>
            <a:pPr marL="556920" indent="-5569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1517760"/>
                <a:tab algn="l" pos="3035160"/>
                <a:tab algn="l" pos="4552920"/>
                <a:tab algn="l" pos="6070680"/>
                <a:tab algn="l" pos="7588080"/>
                <a:tab algn="l" pos="9105840"/>
                <a:tab algn="l" pos="106236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Função: Faz a comparação de todos parâmetros e determina o acerto para cada palavra, fazendo uma varredura nos filtros e janelas. Esta varredura e no sentido de considerar apenas uma janela por vez para a comparação, e depois um filtro por vez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6920" indent="-5569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1517760"/>
                <a:tab algn="l" pos="3035160"/>
                <a:tab algn="l" pos="4552920"/>
                <a:tab algn="l" pos="6070680"/>
                <a:tab algn="l" pos="7588080"/>
                <a:tab algn="l" pos="9105840"/>
                <a:tab algn="l" pos="106236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 considerado como coeficientes de interesse, os filtros de maior acerto para cada palavra individual e as janelas de maior acerto para cada palavr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6920" indent="-5569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1517760"/>
                <a:tab algn="l" pos="3035160"/>
                <a:tab algn="l" pos="4552920"/>
                <a:tab algn="l" pos="6070680"/>
                <a:tab algn="l" pos="7588080"/>
                <a:tab algn="l" pos="9105840"/>
                <a:tab algn="l" pos="106236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ambém e considerado as duas janelas de maior acerto geral e 4 filtros de maior acerto geral, totalizando 8 janelas e de filtros que serão compara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84360" y="7597800"/>
            <a:ext cx="142570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51560" rIns="151560" tIns="75960" bIns="75960" anchor="t">
            <a:normAutofit fontScale="73000"/>
          </a:bodyPr>
          <a:p>
            <a:pPr marL="414720" indent="-41472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1517760"/>
                <a:tab algn="l" pos="3035160"/>
                <a:tab algn="l" pos="4552920"/>
                <a:tab algn="l" pos="6070680"/>
                <a:tab algn="l" pos="7588080"/>
                <a:tab algn="l" pos="9105840"/>
                <a:tab algn="l" pos="106236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Ganhos: melhor distribuição do acerto das palavras individualmente e velocidade, pois não é preciso calcular todos parâmetro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eaeae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774720" y="388440"/>
            <a:ext cx="13932000" cy="1621080"/>
          </a:xfrm>
          <a:prstGeom prst="rect">
            <a:avLst/>
          </a:prstGeom>
          <a:noFill/>
          <a:ln w="0">
            <a:noFill/>
          </a:ln>
        </p:spPr>
        <p:txBody>
          <a:bodyPr lIns="151560" rIns="151560" tIns="75960" bIns="75960" anchor="ctr">
            <a:noAutofit/>
          </a:bodyPr>
          <a:p>
            <a:pPr indent="0" algn="ctr">
              <a:buNone/>
              <a:tabLst>
                <a:tab algn="l" pos="0"/>
                <a:tab algn="l" pos="1517760"/>
                <a:tab algn="l" pos="3035160"/>
                <a:tab algn="l" pos="4552920"/>
                <a:tab algn="l" pos="6070680"/>
                <a:tab algn="l" pos="7588080"/>
                <a:tab algn="l" pos="9105840"/>
                <a:tab algn="l" pos="10623600"/>
              </a:tabLst>
            </a:pPr>
            <a:r>
              <a:rPr b="0" lang="pt-BR" sz="7200" spc="-1" strike="noStrike">
                <a:solidFill>
                  <a:srgbClr val="cc3300"/>
                </a:solidFill>
                <a:latin typeface="Arial"/>
                <a:ea typeface="宋体"/>
              </a:rPr>
              <a:t>Função autoajuste</a:t>
            </a:r>
            <a:r>
              <a:rPr b="0" lang="pt-BR" sz="7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0" y="4475160"/>
            <a:ext cx="154814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0" y="4465800"/>
            <a:ext cx="154814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1187280" y="2340000"/>
          <a:ext cx="13735080" cy="2292480"/>
        </p:xfrm>
        <a:graphic>
          <a:graphicData uri="http://schemas.openxmlformats.org/drawingml/2006/table">
            <a:tbl>
              <a:tblPr/>
              <a:tblGrid>
                <a:gridCol w="2986200"/>
                <a:gridCol w="2273040"/>
                <a:gridCol w="2028960"/>
                <a:gridCol w="2263680"/>
                <a:gridCol w="2090880"/>
                <a:gridCol w="2092320"/>
              </a:tblGrid>
              <a:tr h="885600">
                <a:tc gridSpan="6">
                  <a:txBody>
                    <a:bodyPr lIns="90000" rIns="90000" tIns="46800" bIns="46800" anchor="b">
                      <a:noAutofit/>
                    </a:bodyPr>
                    <a:p>
                      <a:pPr marL="568440" indent="-568440" algn="ctr">
                        <a:tabLst>
                          <a:tab algn="l" pos="0"/>
                          <a:tab algn="l" pos="1517760"/>
                          <a:tab algn="l" pos="3035160"/>
                          <a:tab algn="l" pos="4552920"/>
                          <a:tab algn="l" pos="6070680"/>
                          <a:tab algn="l" pos="7588080"/>
                          <a:tab algn="l" pos="9105840"/>
                          <a:tab algn="l" pos="106236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ultado para 50 amostras de cada palavra / dias distintos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3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568440" indent="-568440">
                        <a:tabLst>
                          <a:tab algn="l" pos="0"/>
                          <a:tab algn="l" pos="1517760"/>
                          <a:tab algn="l" pos="3035160"/>
                          <a:tab algn="l" pos="4552920"/>
                          <a:tab algn="l" pos="6070680"/>
                          <a:tab algn="l" pos="7588080"/>
                          <a:tab algn="l" pos="9105840"/>
                          <a:tab algn="l" pos="106236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querda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568440" indent="-568440">
                        <a:tabLst>
                          <a:tab algn="l" pos="0"/>
                          <a:tab algn="l" pos="1517760"/>
                          <a:tab algn="l" pos="3035160"/>
                          <a:tab algn="l" pos="4552920"/>
                          <a:tab algn="l" pos="6070680"/>
                          <a:tab algn="l" pos="7588080"/>
                          <a:tab algn="l" pos="9105840"/>
                          <a:tab algn="l" pos="106236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reita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568440" indent="-568440">
                        <a:tabLst>
                          <a:tab algn="l" pos="0"/>
                          <a:tab algn="l" pos="1517760"/>
                          <a:tab algn="l" pos="3035160"/>
                          <a:tab algn="l" pos="4552920"/>
                          <a:tab algn="l" pos="6070680"/>
                          <a:tab algn="l" pos="7588080"/>
                          <a:tab algn="l" pos="9105840"/>
                          <a:tab algn="l" pos="106236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nha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568440" indent="-568440">
                        <a:tabLst>
                          <a:tab algn="l" pos="0"/>
                          <a:tab algn="l" pos="1517760"/>
                          <a:tab algn="l" pos="3035160"/>
                          <a:tab algn="l" pos="4552920"/>
                          <a:tab algn="l" pos="6070680"/>
                          <a:tab algn="l" pos="7588080"/>
                          <a:tab algn="l" pos="9105840"/>
                          <a:tab algn="l" pos="106236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ent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568440" indent="-568440">
                        <a:tabLst>
                          <a:tab algn="l" pos="0"/>
                          <a:tab algn="l" pos="1517760"/>
                          <a:tab algn="l" pos="3035160"/>
                          <a:tab algn="l" pos="4552920"/>
                          <a:tab algn="l" pos="6070680"/>
                          <a:tab algn="l" pos="7588080"/>
                          <a:tab algn="l" pos="9105840"/>
                          <a:tab algn="l" pos="106236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lta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568440" indent="-568440">
                        <a:tabLst>
                          <a:tab algn="l" pos="0"/>
                          <a:tab algn="l" pos="1517760"/>
                          <a:tab algn="l" pos="3035160"/>
                          <a:tab algn="l" pos="4552920"/>
                          <a:tab algn="l" pos="6070680"/>
                          <a:tab algn="l" pos="7588080"/>
                          <a:tab algn="l" pos="9105840"/>
                          <a:tab algn="l" pos="106236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a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568440" indent="-568440" algn="r">
                        <a:tabLst>
                          <a:tab algn="l" pos="0"/>
                          <a:tab algn="l" pos="1517760"/>
                          <a:tab algn="l" pos="3035160"/>
                          <a:tab algn="l" pos="4552920"/>
                          <a:tab algn="l" pos="6070680"/>
                          <a:tab algn="l" pos="7588080"/>
                          <a:tab algn="l" pos="9105840"/>
                          <a:tab algn="l" pos="106236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%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568440" indent="-568440" algn="r">
                        <a:tabLst>
                          <a:tab algn="l" pos="0"/>
                          <a:tab algn="l" pos="1517760"/>
                          <a:tab algn="l" pos="3035160"/>
                          <a:tab algn="l" pos="4552920"/>
                          <a:tab algn="l" pos="6070680"/>
                          <a:tab algn="l" pos="7588080"/>
                          <a:tab algn="l" pos="9105840"/>
                          <a:tab algn="l" pos="106236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4%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568440" indent="-568440" algn="r">
                        <a:tabLst>
                          <a:tab algn="l" pos="0"/>
                          <a:tab algn="l" pos="1517760"/>
                          <a:tab algn="l" pos="3035160"/>
                          <a:tab algn="l" pos="4552920"/>
                          <a:tab algn="l" pos="6070680"/>
                          <a:tab algn="l" pos="7588080"/>
                          <a:tab algn="l" pos="9105840"/>
                          <a:tab algn="l" pos="106236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%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568440" indent="-568440" algn="r">
                        <a:tabLst>
                          <a:tab algn="l" pos="0"/>
                          <a:tab algn="l" pos="1517760"/>
                          <a:tab algn="l" pos="3035160"/>
                          <a:tab algn="l" pos="4552920"/>
                          <a:tab algn="l" pos="6070680"/>
                          <a:tab algn="l" pos="7588080"/>
                          <a:tab algn="l" pos="9105840"/>
                          <a:tab algn="l" pos="106236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4%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568440" indent="-568440" algn="r">
                        <a:tabLst>
                          <a:tab algn="l" pos="0"/>
                          <a:tab algn="l" pos="1517760"/>
                          <a:tab algn="l" pos="3035160"/>
                          <a:tab algn="l" pos="4552920"/>
                          <a:tab algn="l" pos="6070680"/>
                          <a:tab algn="l" pos="7588080"/>
                          <a:tab algn="l" pos="9105840"/>
                          <a:tab algn="l" pos="106236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568440" indent="-568440" algn="r">
                        <a:tabLst>
                          <a:tab algn="l" pos="0"/>
                          <a:tab algn="l" pos="1517760"/>
                          <a:tab algn="l" pos="3035160"/>
                          <a:tab algn="l" pos="4552920"/>
                          <a:tab algn="l" pos="6070680"/>
                          <a:tab algn="l" pos="7588080"/>
                          <a:tab algn="l" pos="9105840"/>
                          <a:tab algn="l" pos="106236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2%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2" name=""/>
          <p:cNvSpPr/>
          <p:nvPr/>
        </p:nvSpPr>
        <p:spPr>
          <a:xfrm>
            <a:off x="1044720" y="5437080"/>
            <a:ext cx="1411272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51560" rIns="151560" tIns="75960" bIns="75960" anchor="t">
            <a:normAutofit/>
          </a:bodyPr>
          <a:p>
            <a:pPr marL="568440" indent="-5684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517760"/>
                <a:tab algn="l" pos="3035160"/>
                <a:tab algn="l" pos="4552920"/>
                <a:tab algn="l" pos="6070680"/>
                <a:tab algn="l" pos="7588080"/>
                <a:tab algn="l" pos="9105840"/>
                <a:tab algn="l" pos="106236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Tempo de extração dos MFCC de uma palavra em 4.5 segund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eaeae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774720" y="388440"/>
            <a:ext cx="13932000" cy="1621080"/>
          </a:xfrm>
          <a:prstGeom prst="rect">
            <a:avLst/>
          </a:prstGeom>
          <a:noFill/>
          <a:ln w="0">
            <a:noFill/>
          </a:ln>
        </p:spPr>
        <p:txBody>
          <a:bodyPr lIns="151560" rIns="151560" tIns="75960" bIns="75960" anchor="ctr">
            <a:noAutofit/>
          </a:bodyPr>
          <a:p>
            <a:pPr indent="0" algn="ctr">
              <a:buNone/>
              <a:tabLst>
                <a:tab algn="l" pos="0"/>
                <a:tab algn="l" pos="1517760"/>
                <a:tab algn="l" pos="3035160"/>
                <a:tab algn="l" pos="4552920"/>
                <a:tab algn="l" pos="6070680"/>
                <a:tab algn="l" pos="7588080"/>
                <a:tab algn="l" pos="9105840"/>
                <a:tab algn="l" pos="10623600"/>
              </a:tabLst>
            </a:pPr>
            <a:r>
              <a:rPr b="0" lang="pt-BR" sz="7200" spc="-1" strike="noStrike">
                <a:solidFill>
                  <a:srgbClr val="cc3300"/>
                </a:solidFill>
                <a:latin typeface="Arial"/>
                <a:ea typeface="宋体"/>
              </a:rPr>
              <a:t>Programa no C Builder</a:t>
            </a:r>
            <a:r>
              <a:rPr b="0" lang="pt-BR" sz="7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0" y="4475160"/>
            <a:ext cx="154814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4465800"/>
            <a:ext cx="154814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116000" y="3637080"/>
            <a:ext cx="141127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51560" rIns="151560" tIns="75960" bIns="75960" anchor="t">
            <a:normAutofit/>
          </a:bodyPr>
          <a:p>
            <a:pPr marL="568440" indent="-5684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517760"/>
                <a:tab algn="l" pos="3035160"/>
                <a:tab algn="l" pos="4552920"/>
                <a:tab algn="l" pos="6070680"/>
                <a:tab algn="l" pos="7588080"/>
                <a:tab algn="l" pos="9105840"/>
                <a:tab algn="l" pos="106236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Resultados igua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116000" y="2844720"/>
            <a:ext cx="1411272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51560" rIns="151560" tIns="75960" bIns="75960" anchor="t">
            <a:normAutofit/>
          </a:bodyPr>
          <a:p>
            <a:pPr marL="568440" indent="-5684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517760"/>
                <a:tab algn="l" pos="3035160"/>
                <a:tab algn="l" pos="4552920"/>
                <a:tab algn="l" pos="6070680"/>
                <a:tab algn="l" pos="7588080"/>
                <a:tab algn="l" pos="9105840"/>
                <a:tab algn="l" pos="106236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Foi criado um programa semelhante no C Buil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116000" y="4356000"/>
            <a:ext cx="1411272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51560" rIns="151560" tIns="75960" bIns="75960" anchor="t">
            <a:normAutofit/>
          </a:bodyPr>
          <a:p>
            <a:pPr marL="568440" indent="-5684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517760"/>
                <a:tab algn="l" pos="3035160"/>
                <a:tab algn="l" pos="4552920"/>
                <a:tab algn="l" pos="6070680"/>
                <a:tab algn="l" pos="7588080"/>
                <a:tab algn="l" pos="9105840"/>
                <a:tab algn="l" pos="106236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Velocidade de extração de uma palavra, foi estimado em 30 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116000" y="5148360"/>
            <a:ext cx="141127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51560" rIns="151560" tIns="75960" bIns="75960" anchor="t">
            <a:normAutofit fontScale="78000"/>
          </a:bodyPr>
          <a:p>
            <a:pPr marL="443160" indent="-44316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517760"/>
                <a:tab algn="l" pos="3035160"/>
                <a:tab algn="l" pos="4552920"/>
                <a:tab algn="l" pos="6070680"/>
                <a:tab algn="l" pos="7588080"/>
                <a:tab algn="l" pos="9105840"/>
                <a:tab algn="l" pos="106236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O numero de padrões para cada palavra pode variar de 2 a dez automaticamen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116000" y="6229440"/>
            <a:ext cx="141127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51560" rIns="151560" tIns="75960" bIns="75960" anchor="t">
            <a:normAutofit/>
          </a:bodyPr>
          <a:p>
            <a:pPr marL="568440" indent="-5684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517760"/>
                <a:tab algn="l" pos="3035160"/>
                <a:tab algn="l" pos="4552920"/>
                <a:tab algn="l" pos="6070680"/>
                <a:tab algn="l" pos="7588080"/>
                <a:tab algn="l" pos="9105840"/>
                <a:tab algn="l" pos="106236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Mantido a função autoajus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eaeae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55640" y="539280"/>
            <a:ext cx="13933440" cy="1621080"/>
          </a:xfrm>
          <a:prstGeom prst="rect">
            <a:avLst/>
          </a:prstGeom>
          <a:noFill/>
          <a:ln w="0">
            <a:noFill/>
          </a:ln>
        </p:spPr>
        <p:txBody>
          <a:bodyPr lIns="151560" rIns="151560" tIns="75960" bIns="75960" anchor="ctr">
            <a:noAutofit/>
          </a:bodyPr>
          <a:p>
            <a:pPr indent="0" algn="ctr">
              <a:buNone/>
              <a:tabLst>
                <a:tab algn="l" pos="0"/>
                <a:tab algn="l" pos="1517760"/>
                <a:tab algn="l" pos="3035160"/>
                <a:tab algn="l" pos="4552920"/>
                <a:tab algn="l" pos="6070680"/>
                <a:tab algn="l" pos="7588080"/>
                <a:tab algn="l" pos="9105840"/>
                <a:tab algn="l" pos="10623600"/>
              </a:tabLst>
            </a:pPr>
            <a:r>
              <a:rPr b="0" lang="pt-BR" sz="7200" spc="-1" strike="noStrike">
                <a:solidFill>
                  <a:srgbClr val="cc3300"/>
                </a:solidFill>
                <a:latin typeface="Arial"/>
              </a:rPr>
              <a:t>Objetivo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55640" y="2555640"/>
            <a:ext cx="13933440" cy="3747960"/>
          </a:xfrm>
          <a:prstGeom prst="rect">
            <a:avLst/>
          </a:prstGeom>
          <a:noFill/>
          <a:ln w="0">
            <a:noFill/>
          </a:ln>
        </p:spPr>
        <p:txBody>
          <a:bodyPr lIns="151560" rIns="151560" tIns="75960" bIns="75960" anchor="t">
            <a:normAutofit/>
          </a:bodyPr>
          <a:p>
            <a:pPr marL="568440" indent="-568440" algn="ctr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1517760"/>
                <a:tab algn="l" pos="3035160"/>
                <a:tab algn="l" pos="4552920"/>
                <a:tab algn="l" pos="6070680"/>
                <a:tab algn="l" pos="7588080"/>
                <a:tab algn="l" pos="9105840"/>
                <a:tab algn="l" pos="10623600"/>
              </a:tabLst>
            </a:pPr>
            <a:r>
              <a:rPr b="0" lang="pt-BR" sz="5400" spc="-1" strike="noStrike">
                <a:solidFill>
                  <a:srgbClr val="000000"/>
                </a:solidFill>
                <a:latin typeface="Arial"/>
              </a:rPr>
              <a:t>Criar um software capaz de fazer o reconhecimento de comandos de voz dentro de um pequeno universo de comandos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5437080" y="7308720"/>
            <a:ext cx="719280" cy="6429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7020000" y="7093080"/>
            <a:ext cx="1585800" cy="13255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 flipH="1">
            <a:off x="4427640" y="6805440"/>
            <a:ext cx="792000" cy="9255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6012000" y="7645320"/>
            <a:ext cx="1657080" cy="552600"/>
          </a:xfrm>
          <a:custGeom>
            <a:avLst/>
            <a:gdLst/>
            <a:ahLst/>
            <a:rect l="l" t="t" r="r" b="b"/>
            <a:pathLst>
              <a:path w="1089" h="348">
                <a:moveTo>
                  <a:pt x="0" y="196"/>
                </a:moveTo>
                <a:cubicBezTo>
                  <a:pt x="189" y="272"/>
                  <a:pt x="379" y="348"/>
                  <a:pt x="454" y="333"/>
                </a:cubicBezTo>
                <a:cubicBezTo>
                  <a:pt x="529" y="318"/>
                  <a:pt x="424" y="159"/>
                  <a:pt x="454" y="106"/>
                </a:cubicBezTo>
                <a:cubicBezTo>
                  <a:pt x="484" y="53"/>
                  <a:pt x="590" y="0"/>
                  <a:pt x="635" y="15"/>
                </a:cubicBezTo>
                <a:cubicBezTo>
                  <a:pt x="680" y="30"/>
                  <a:pt x="673" y="181"/>
                  <a:pt x="726" y="196"/>
                </a:cubicBezTo>
                <a:cubicBezTo>
                  <a:pt x="779" y="211"/>
                  <a:pt x="893" y="98"/>
                  <a:pt x="953" y="106"/>
                </a:cubicBezTo>
                <a:cubicBezTo>
                  <a:pt x="1013" y="114"/>
                  <a:pt x="1074" y="227"/>
                  <a:pt x="1089" y="242"/>
                </a:cubicBez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8388360" y="774072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828360" y="7381800"/>
            <a:ext cx="13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Aç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eaeae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74720" y="388440"/>
            <a:ext cx="13932000" cy="1621080"/>
          </a:xfrm>
          <a:prstGeom prst="rect">
            <a:avLst/>
          </a:prstGeom>
          <a:noFill/>
          <a:ln w="0">
            <a:noFill/>
          </a:ln>
        </p:spPr>
        <p:txBody>
          <a:bodyPr lIns="151560" rIns="151560" tIns="75960" bIns="75960" anchor="ctr">
            <a:noAutofit/>
          </a:bodyPr>
          <a:p>
            <a:pPr indent="0" algn="ctr">
              <a:buNone/>
              <a:tabLst>
                <a:tab algn="l" pos="0"/>
                <a:tab algn="l" pos="1517760"/>
                <a:tab algn="l" pos="3035160"/>
                <a:tab algn="l" pos="4552920"/>
                <a:tab algn="l" pos="6070680"/>
                <a:tab algn="l" pos="7588080"/>
                <a:tab algn="l" pos="9105840"/>
                <a:tab algn="l" pos="10623600"/>
              </a:tabLst>
            </a:pPr>
            <a:r>
              <a:rPr b="0" lang="pt-BR" sz="7200" spc="-1" strike="noStrike">
                <a:solidFill>
                  <a:srgbClr val="cc3300"/>
                </a:solidFill>
                <a:latin typeface="Arial"/>
                <a:ea typeface="宋体"/>
              </a:rPr>
              <a:t>Programa no C Builder 2 padrões</a:t>
            </a:r>
            <a:r>
              <a:rPr b="0" lang="pt-BR" sz="7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0" y="4475160"/>
            <a:ext cx="154814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0" y="4465800"/>
            <a:ext cx="154814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900000" y="2557440"/>
          <a:ext cx="13735080" cy="2292480"/>
        </p:xfrm>
        <a:graphic>
          <a:graphicData uri="http://schemas.openxmlformats.org/drawingml/2006/table">
            <a:tbl>
              <a:tblPr/>
              <a:tblGrid>
                <a:gridCol w="2986200"/>
                <a:gridCol w="2273040"/>
                <a:gridCol w="2028960"/>
                <a:gridCol w="2263680"/>
                <a:gridCol w="2090880"/>
                <a:gridCol w="2092320"/>
              </a:tblGrid>
              <a:tr h="885600">
                <a:tc gridSpan="6">
                  <a:txBody>
                    <a:bodyPr lIns="90000" rIns="90000" tIns="46800" bIns="46800" anchor="b">
                      <a:noAutofit/>
                    </a:bodyPr>
                    <a:p>
                      <a:pPr marL="568440" indent="-568440" algn="ctr">
                        <a:tabLst>
                          <a:tab algn="l" pos="0"/>
                          <a:tab algn="l" pos="1517760"/>
                          <a:tab algn="l" pos="3035160"/>
                          <a:tab algn="l" pos="4552920"/>
                          <a:tab algn="l" pos="6070680"/>
                          <a:tab algn="l" pos="7588080"/>
                          <a:tab algn="l" pos="9105840"/>
                          <a:tab algn="l" pos="106236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ultado para 50 amostras de cada palavra / dias distintos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3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568440" indent="-568440">
                        <a:tabLst>
                          <a:tab algn="l" pos="0"/>
                          <a:tab algn="l" pos="1517760"/>
                          <a:tab algn="l" pos="3035160"/>
                          <a:tab algn="l" pos="4552920"/>
                          <a:tab algn="l" pos="6070680"/>
                          <a:tab algn="l" pos="7588080"/>
                          <a:tab algn="l" pos="9105840"/>
                          <a:tab algn="l" pos="106236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querda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568440" indent="-568440">
                        <a:tabLst>
                          <a:tab algn="l" pos="0"/>
                          <a:tab algn="l" pos="1517760"/>
                          <a:tab algn="l" pos="3035160"/>
                          <a:tab algn="l" pos="4552920"/>
                          <a:tab algn="l" pos="6070680"/>
                          <a:tab algn="l" pos="7588080"/>
                          <a:tab algn="l" pos="9105840"/>
                          <a:tab algn="l" pos="106236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reita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568440" indent="-568440">
                        <a:tabLst>
                          <a:tab algn="l" pos="0"/>
                          <a:tab algn="l" pos="1517760"/>
                          <a:tab algn="l" pos="3035160"/>
                          <a:tab algn="l" pos="4552920"/>
                          <a:tab algn="l" pos="6070680"/>
                          <a:tab algn="l" pos="7588080"/>
                          <a:tab algn="l" pos="9105840"/>
                          <a:tab algn="l" pos="106236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nha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568440" indent="-568440">
                        <a:tabLst>
                          <a:tab algn="l" pos="0"/>
                          <a:tab algn="l" pos="1517760"/>
                          <a:tab algn="l" pos="3035160"/>
                          <a:tab algn="l" pos="4552920"/>
                          <a:tab algn="l" pos="6070680"/>
                          <a:tab algn="l" pos="7588080"/>
                          <a:tab algn="l" pos="9105840"/>
                          <a:tab algn="l" pos="106236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ent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568440" indent="-568440">
                        <a:tabLst>
                          <a:tab algn="l" pos="0"/>
                          <a:tab algn="l" pos="1517760"/>
                          <a:tab algn="l" pos="3035160"/>
                          <a:tab algn="l" pos="4552920"/>
                          <a:tab algn="l" pos="6070680"/>
                          <a:tab algn="l" pos="7588080"/>
                          <a:tab algn="l" pos="9105840"/>
                          <a:tab algn="l" pos="106236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lta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568440" indent="-568440">
                        <a:tabLst>
                          <a:tab algn="l" pos="0"/>
                          <a:tab algn="l" pos="1517760"/>
                          <a:tab algn="l" pos="3035160"/>
                          <a:tab algn="l" pos="4552920"/>
                          <a:tab algn="l" pos="6070680"/>
                          <a:tab algn="l" pos="7588080"/>
                          <a:tab algn="l" pos="9105840"/>
                          <a:tab algn="l" pos="106236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a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568440" indent="-568440" algn="r">
                        <a:tabLst>
                          <a:tab algn="l" pos="0"/>
                          <a:tab algn="l" pos="1517760"/>
                          <a:tab algn="l" pos="3035160"/>
                          <a:tab algn="l" pos="4552920"/>
                          <a:tab algn="l" pos="6070680"/>
                          <a:tab algn="l" pos="7588080"/>
                          <a:tab algn="l" pos="9105840"/>
                          <a:tab algn="l" pos="106236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%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568440" indent="-568440" algn="r">
                        <a:tabLst>
                          <a:tab algn="l" pos="0"/>
                          <a:tab algn="l" pos="1517760"/>
                          <a:tab algn="l" pos="3035160"/>
                          <a:tab algn="l" pos="4552920"/>
                          <a:tab algn="l" pos="6070680"/>
                          <a:tab algn="l" pos="7588080"/>
                          <a:tab algn="l" pos="9105840"/>
                          <a:tab algn="l" pos="106236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6%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568440" indent="-568440" algn="r">
                        <a:tabLst>
                          <a:tab algn="l" pos="0"/>
                          <a:tab algn="l" pos="1517760"/>
                          <a:tab algn="l" pos="3035160"/>
                          <a:tab algn="l" pos="4552920"/>
                          <a:tab algn="l" pos="6070680"/>
                          <a:tab algn="l" pos="7588080"/>
                          <a:tab algn="l" pos="9105840"/>
                          <a:tab algn="l" pos="106236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%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568440" indent="-568440" algn="r">
                        <a:tabLst>
                          <a:tab algn="l" pos="0"/>
                          <a:tab algn="l" pos="1517760"/>
                          <a:tab algn="l" pos="3035160"/>
                          <a:tab algn="l" pos="4552920"/>
                          <a:tab algn="l" pos="6070680"/>
                          <a:tab algn="l" pos="7588080"/>
                          <a:tab algn="l" pos="9105840"/>
                          <a:tab algn="l" pos="106236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%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568440" indent="-568440" algn="r">
                        <a:tabLst>
                          <a:tab algn="l" pos="0"/>
                          <a:tab algn="l" pos="1517760"/>
                          <a:tab algn="l" pos="3035160"/>
                          <a:tab algn="l" pos="4552920"/>
                          <a:tab algn="l" pos="6070680"/>
                          <a:tab algn="l" pos="7588080"/>
                          <a:tab algn="l" pos="9105840"/>
                          <a:tab algn="l" pos="106236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568440" indent="-568440" algn="r">
                        <a:tabLst>
                          <a:tab algn="l" pos="0"/>
                          <a:tab algn="l" pos="1517760"/>
                          <a:tab algn="l" pos="3035160"/>
                          <a:tab algn="l" pos="4552920"/>
                          <a:tab algn="l" pos="6070680"/>
                          <a:tab algn="l" pos="7588080"/>
                          <a:tab algn="l" pos="9105840"/>
                          <a:tab algn="l" pos="106236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8%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eaeae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774720" y="388440"/>
            <a:ext cx="13932000" cy="1621080"/>
          </a:xfrm>
          <a:prstGeom prst="rect">
            <a:avLst/>
          </a:prstGeom>
          <a:noFill/>
          <a:ln w="0">
            <a:noFill/>
          </a:ln>
        </p:spPr>
        <p:txBody>
          <a:bodyPr lIns="151560" rIns="151560" tIns="75960" bIns="75960" anchor="ctr">
            <a:noAutofit/>
          </a:bodyPr>
          <a:p>
            <a:pPr indent="0" algn="ctr">
              <a:buNone/>
              <a:tabLst>
                <a:tab algn="l" pos="0"/>
                <a:tab algn="l" pos="1517760"/>
                <a:tab algn="l" pos="3035160"/>
                <a:tab algn="l" pos="4552920"/>
                <a:tab algn="l" pos="6070680"/>
                <a:tab algn="l" pos="7588080"/>
                <a:tab algn="l" pos="9105840"/>
                <a:tab algn="l" pos="10623600"/>
              </a:tabLst>
            </a:pPr>
            <a:r>
              <a:rPr b="0" lang="pt-BR" sz="7200" spc="-1" strike="noStrike">
                <a:solidFill>
                  <a:srgbClr val="cc3300"/>
                </a:solidFill>
                <a:latin typeface="Arial"/>
                <a:ea typeface="宋体"/>
              </a:rPr>
              <a:t>Otimizações nos dois programas</a:t>
            </a:r>
            <a:r>
              <a:rPr b="0" lang="pt-BR" sz="7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0" y="4475160"/>
            <a:ext cx="154814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0" y="4465800"/>
            <a:ext cx="154814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828720" y="2484360"/>
            <a:ext cx="1411272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51560" rIns="151560" tIns="75960" bIns="75960" anchor="t">
            <a:normAutofit fontScale="57000"/>
          </a:bodyPr>
          <a:p>
            <a:pPr marL="324000" indent="-32400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517760"/>
                <a:tab algn="l" pos="3035160"/>
                <a:tab algn="l" pos="4552920"/>
                <a:tab algn="l" pos="6070680"/>
                <a:tab algn="l" pos="7588080"/>
                <a:tab algn="l" pos="9105840"/>
                <a:tab algn="l" pos="106236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Função autoajus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517760"/>
                <a:tab algn="l" pos="3035160"/>
                <a:tab algn="l" pos="4552920"/>
                <a:tab algn="l" pos="6070680"/>
                <a:tab algn="l" pos="7588080"/>
                <a:tab algn="l" pos="9105840"/>
                <a:tab algn="l" pos="106236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Calcula os coeficientes dos padrões antes de iniciar o reconhecimento, para baixar o tempo de resposta do sistem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eaeae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774720" y="388440"/>
            <a:ext cx="13932000" cy="1621080"/>
          </a:xfrm>
          <a:prstGeom prst="rect">
            <a:avLst/>
          </a:prstGeom>
          <a:noFill/>
          <a:ln w="0">
            <a:noFill/>
          </a:ln>
        </p:spPr>
        <p:txBody>
          <a:bodyPr lIns="151560" rIns="151560" tIns="75960" bIns="75960" anchor="ctr">
            <a:noAutofit/>
          </a:bodyPr>
          <a:p>
            <a:pPr indent="0" algn="ctr">
              <a:buNone/>
              <a:tabLst>
                <a:tab algn="l" pos="0"/>
                <a:tab algn="l" pos="1517760"/>
                <a:tab algn="l" pos="3035160"/>
                <a:tab algn="l" pos="4552920"/>
                <a:tab algn="l" pos="6070680"/>
                <a:tab algn="l" pos="7588080"/>
                <a:tab algn="l" pos="9105840"/>
                <a:tab algn="l" pos="10623600"/>
              </a:tabLst>
            </a:pPr>
            <a:r>
              <a:rPr b="0" lang="pt-BR" sz="7200" spc="-1" strike="noStrike">
                <a:solidFill>
                  <a:srgbClr val="cc3300"/>
                </a:solidFill>
                <a:latin typeface="Arial"/>
                <a:ea typeface="宋体"/>
              </a:rPr>
              <a:t>Builder x Matlab 6</a:t>
            </a:r>
            <a:r>
              <a:rPr b="0" lang="pt-BR" sz="7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0" y="4475160"/>
            <a:ext cx="154814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0" y="4465800"/>
            <a:ext cx="154814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971640" y="7165800"/>
            <a:ext cx="1411272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51560" rIns="151560" tIns="75960" bIns="75960" anchor="t">
            <a:normAutofit fontScale="51000"/>
          </a:bodyPr>
          <a:p>
            <a:pPr marL="289800" indent="-28980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517760"/>
                <a:tab algn="l" pos="3035160"/>
                <a:tab algn="l" pos="4552920"/>
                <a:tab algn="l" pos="6070680"/>
                <a:tab algn="l" pos="7588080"/>
                <a:tab algn="l" pos="9105840"/>
                <a:tab algn="l" pos="106236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Poucos testes foram realizados, mas percebeu-se que é muito mais rápido que a versão anterior. Se fizer algumas otimizações no algoritmo, o tempo de extração de parâmetros pode ficar na faixa de 1 segundo (falta testes, foi apenas estimado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116000" y="4213080"/>
            <a:ext cx="1411272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51560" rIns="151560" tIns="75960" bIns="75960" anchor="t">
            <a:normAutofit fontScale="73000"/>
          </a:bodyPr>
          <a:p>
            <a:pPr marL="414720" indent="-41472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517760"/>
                <a:tab algn="l" pos="3035160"/>
                <a:tab algn="l" pos="4552920"/>
                <a:tab algn="l" pos="6070680"/>
                <a:tab algn="l" pos="7588080"/>
                <a:tab algn="l" pos="9105840"/>
                <a:tab algn="l" pos="106236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O programa compilado se torna muito rápido, porem algumas funções são de difícil implementação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8720" y="5292720"/>
            <a:ext cx="13932000" cy="16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51560" rIns="151560" tIns="75960" bIns="75960" anchor="ctr">
            <a:noAutofit/>
          </a:bodyPr>
          <a:p>
            <a:pPr algn="ctr">
              <a:tabLst>
                <a:tab algn="l" pos="0"/>
                <a:tab algn="l" pos="1517760"/>
                <a:tab algn="l" pos="3035160"/>
                <a:tab algn="l" pos="4552920"/>
                <a:tab algn="l" pos="6070680"/>
                <a:tab algn="l" pos="7588080"/>
                <a:tab algn="l" pos="9105840"/>
                <a:tab algn="l" pos="10623600"/>
              </a:tabLst>
            </a:pPr>
            <a:r>
              <a:rPr b="0" lang="pt-BR" sz="7200" spc="-1" strike="noStrike">
                <a:solidFill>
                  <a:srgbClr val="cc3300"/>
                </a:solidFill>
                <a:latin typeface="Arial"/>
                <a:ea typeface="宋体"/>
              </a:rPr>
              <a:t>Matlab 7</a:t>
            </a:r>
            <a:r>
              <a:rPr b="0" lang="pt-BR" sz="7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044720" y="3060720"/>
            <a:ext cx="141127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51560" rIns="151560" tIns="75960" bIns="75960" anchor="t">
            <a:normAutofit fontScale="73000"/>
          </a:bodyPr>
          <a:p>
            <a:pPr marL="414720" indent="-41472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517760"/>
                <a:tab algn="l" pos="3035160"/>
                <a:tab algn="l" pos="4552920"/>
                <a:tab algn="l" pos="6070680"/>
                <a:tab algn="l" pos="7588080"/>
                <a:tab algn="l" pos="9105840"/>
                <a:tab algn="l" pos="106236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O Matlab 6 tem como ponto positivo ter muitas funções prontas, como as de aquisição, porem é lento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eaeae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755640" y="0"/>
            <a:ext cx="13932000" cy="1044720"/>
          </a:xfrm>
          <a:prstGeom prst="rect">
            <a:avLst/>
          </a:prstGeom>
          <a:noFill/>
          <a:ln w="0">
            <a:noFill/>
          </a:ln>
        </p:spPr>
        <p:txBody>
          <a:bodyPr lIns="151560" rIns="151560" tIns="75960" bIns="75960" anchor="ctr">
            <a:noAutofit/>
          </a:bodyPr>
          <a:p>
            <a:pPr indent="0" algn="ctr">
              <a:buNone/>
              <a:tabLst>
                <a:tab algn="l" pos="0"/>
                <a:tab algn="l" pos="1517760"/>
                <a:tab algn="l" pos="3035160"/>
                <a:tab algn="l" pos="4552920"/>
                <a:tab algn="l" pos="6070680"/>
                <a:tab algn="l" pos="7588080"/>
                <a:tab algn="l" pos="9105840"/>
                <a:tab algn="l" pos="10623600"/>
              </a:tabLst>
            </a:pPr>
            <a:r>
              <a:rPr b="0" lang="pt-BR" sz="4800" spc="-1" strike="noStrike">
                <a:solidFill>
                  <a:srgbClr val="cc3300"/>
                </a:solidFill>
                <a:latin typeface="Arial"/>
              </a:rPr>
              <a:t>Cronogramas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7" name=""/>
          <p:cNvGraphicFramePr/>
          <p:nvPr/>
        </p:nvGraphicFramePr>
        <p:xfrm>
          <a:off x="828720" y="828720"/>
          <a:ext cx="14166720" cy="4156200"/>
        </p:xfrm>
        <a:graphic>
          <a:graphicData uri="http://schemas.openxmlformats.org/drawingml/2006/table">
            <a:tbl>
              <a:tblPr/>
              <a:tblGrid>
                <a:gridCol w="3921120"/>
                <a:gridCol w="1206360"/>
                <a:gridCol w="1208160"/>
                <a:gridCol w="1127160"/>
                <a:gridCol w="1131840"/>
                <a:gridCol w="1177920"/>
                <a:gridCol w="1176480"/>
                <a:gridCol w="1103040"/>
                <a:gridCol w="1100160"/>
                <a:gridCol w="1014480"/>
              </a:tblGrid>
              <a:tr h="337320">
                <a:tc gridSpan="10">
                  <a:txBody>
                    <a:bodyPr lIns="90000" rIns="90000" tIns="46800" bIns="46800" anchor="b">
                      <a:noAutofit/>
                    </a:bodyPr>
                    <a:p>
                      <a:pPr marL="568440" indent="-568440" algn="ctr">
                        <a:tabLst>
                          <a:tab algn="l" pos="0"/>
                          <a:tab algn="l" pos="1517760"/>
                          <a:tab algn="l" pos="3035160"/>
                          <a:tab algn="l" pos="4552920"/>
                          <a:tab algn="l" pos="6070680"/>
                          <a:tab algn="l" pos="7588080"/>
                          <a:tab algn="l" pos="9105840"/>
                          <a:tab algn="l" pos="106236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onograma anteroi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568440" indent="-568440">
                        <a:tabLst>
                          <a:tab algn="l" pos="0"/>
                          <a:tab algn="l" pos="1517760"/>
                          <a:tab algn="l" pos="3035160"/>
                          <a:tab algn="l" pos="4552920"/>
                          <a:tab algn="l" pos="6070680"/>
                          <a:tab algn="l" pos="7588080"/>
                          <a:tab algn="l" pos="9105840"/>
                          <a:tab algn="l" pos="106236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inze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568440" indent="-568440" algn="r">
                        <a:tabLst>
                          <a:tab algn="l" pos="0"/>
                          <a:tab algn="l" pos="1517760"/>
                          <a:tab algn="l" pos="3035160"/>
                          <a:tab algn="l" pos="4552920"/>
                          <a:tab algn="l" pos="6070680"/>
                          <a:tab algn="l" pos="7588080"/>
                          <a:tab algn="l" pos="9105840"/>
                          <a:tab algn="l" pos="106236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/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568440" indent="-568440" algn="r">
                        <a:tabLst>
                          <a:tab algn="l" pos="0"/>
                          <a:tab algn="l" pos="1517760"/>
                          <a:tab algn="l" pos="3035160"/>
                          <a:tab algn="l" pos="4552920"/>
                          <a:tab algn="l" pos="6070680"/>
                          <a:tab algn="l" pos="7588080"/>
                          <a:tab algn="l" pos="9105840"/>
                          <a:tab algn="l" pos="106236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/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568440" indent="-568440" algn="r">
                        <a:tabLst>
                          <a:tab algn="l" pos="0"/>
                          <a:tab algn="l" pos="1517760"/>
                          <a:tab algn="l" pos="3035160"/>
                          <a:tab algn="l" pos="4552920"/>
                          <a:tab algn="l" pos="6070680"/>
                          <a:tab algn="l" pos="7588080"/>
                          <a:tab algn="l" pos="9105840"/>
                          <a:tab algn="l" pos="106236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br/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568440" indent="-568440" algn="r">
                        <a:tabLst>
                          <a:tab algn="l" pos="0"/>
                          <a:tab algn="l" pos="1517760"/>
                          <a:tab algn="l" pos="3035160"/>
                          <a:tab algn="l" pos="4552920"/>
                          <a:tab algn="l" pos="6070680"/>
                          <a:tab algn="l" pos="7588080"/>
                          <a:tab algn="l" pos="9105840"/>
                          <a:tab algn="l" pos="106236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br/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568440" indent="-568440" algn="r">
                        <a:tabLst>
                          <a:tab algn="l" pos="0"/>
                          <a:tab algn="l" pos="1517760"/>
                          <a:tab algn="l" pos="3035160"/>
                          <a:tab algn="l" pos="4552920"/>
                          <a:tab algn="l" pos="6070680"/>
                          <a:tab algn="l" pos="7588080"/>
                          <a:tab algn="l" pos="9105840"/>
                          <a:tab algn="l" pos="106236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i/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568440" indent="-568440" algn="r">
                        <a:tabLst>
                          <a:tab algn="l" pos="0"/>
                          <a:tab algn="l" pos="1517760"/>
                          <a:tab algn="l" pos="3035160"/>
                          <a:tab algn="l" pos="4552920"/>
                          <a:tab algn="l" pos="6070680"/>
                          <a:tab algn="l" pos="7588080"/>
                          <a:tab algn="l" pos="9105840"/>
                          <a:tab algn="l" pos="106236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i/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568440" indent="-568440" algn="r">
                        <a:tabLst>
                          <a:tab algn="l" pos="0"/>
                          <a:tab algn="l" pos="1517760"/>
                          <a:tab algn="l" pos="3035160"/>
                          <a:tab algn="l" pos="4552920"/>
                          <a:tab algn="l" pos="6070680"/>
                          <a:tab algn="l" pos="7588080"/>
                          <a:tab algn="l" pos="9105840"/>
                          <a:tab algn="l" pos="106236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n/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568440" indent="-568440" algn="r">
                        <a:tabLst>
                          <a:tab algn="l" pos="0"/>
                          <a:tab algn="l" pos="1517760"/>
                          <a:tab algn="l" pos="3035160"/>
                          <a:tab algn="l" pos="4552920"/>
                          <a:tab algn="l" pos="6070680"/>
                          <a:tab algn="l" pos="7588080"/>
                          <a:tab algn="l" pos="9105840"/>
                          <a:tab algn="l" pos="106236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n/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568440" indent="-568440" algn="r">
                        <a:tabLst>
                          <a:tab algn="l" pos="0"/>
                          <a:tab algn="l" pos="1517760"/>
                          <a:tab algn="l" pos="3035160"/>
                          <a:tab algn="l" pos="4552920"/>
                          <a:tab algn="l" pos="6070680"/>
                          <a:tab algn="l" pos="7588080"/>
                          <a:tab algn="l" pos="9105840"/>
                          <a:tab algn="l" pos="106236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l/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568440" indent="-568440">
                        <a:tabLst>
                          <a:tab algn="l" pos="0"/>
                          <a:tab algn="l" pos="1517760"/>
                          <a:tab algn="l" pos="3035160"/>
                          <a:tab algn="l" pos="4552920"/>
                          <a:tab algn="l" pos="6070680"/>
                          <a:tab algn="l" pos="7588080"/>
                          <a:tab algn="l" pos="9105840"/>
                          <a:tab algn="l" pos="106236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nograf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568440" indent="-568440">
                        <a:tabLst>
                          <a:tab algn="l" pos="0"/>
                          <a:tab algn="l" pos="1517760"/>
                          <a:tab algn="l" pos="3035160"/>
                          <a:tab algn="l" pos="4552920"/>
                          <a:tab algn="l" pos="6070680"/>
                          <a:tab algn="l" pos="7588080"/>
                          <a:tab algn="l" pos="9105840"/>
                          <a:tab algn="l" pos="106236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568440" indent="-568440">
                        <a:tabLst>
                          <a:tab algn="l" pos="0"/>
                          <a:tab algn="l" pos="1517760"/>
                          <a:tab algn="l" pos="3035160"/>
                          <a:tab algn="l" pos="4552920"/>
                          <a:tab algn="l" pos="6070680"/>
                          <a:tab algn="l" pos="7588080"/>
                          <a:tab algn="l" pos="9105840"/>
                          <a:tab algn="l" pos="106236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568440" indent="-568440">
                        <a:tabLst>
                          <a:tab algn="l" pos="0"/>
                          <a:tab algn="l" pos="1517760"/>
                          <a:tab algn="l" pos="3035160"/>
                          <a:tab algn="l" pos="4552920"/>
                          <a:tab algn="l" pos="6070680"/>
                          <a:tab algn="l" pos="7588080"/>
                          <a:tab algn="l" pos="9105840"/>
                          <a:tab algn="l" pos="106236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568440" indent="-568440">
                        <a:tabLst>
                          <a:tab algn="l" pos="0"/>
                          <a:tab algn="l" pos="1517760"/>
                          <a:tab algn="l" pos="3035160"/>
                          <a:tab algn="l" pos="4552920"/>
                          <a:tab algn="l" pos="6070680"/>
                          <a:tab algn="l" pos="7588080"/>
                          <a:tab algn="l" pos="9105840"/>
                          <a:tab algn="l" pos="106236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568440" indent="-568440">
                        <a:tabLst>
                          <a:tab algn="l" pos="0"/>
                          <a:tab algn="l" pos="1517760"/>
                          <a:tab algn="l" pos="3035160"/>
                          <a:tab algn="l" pos="4552920"/>
                          <a:tab algn="l" pos="6070680"/>
                          <a:tab algn="l" pos="7588080"/>
                          <a:tab algn="l" pos="9105840"/>
                          <a:tab algn="l" pos="106236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568440" indent="-568440">
                        <a:tabLst>
                          <a:tab algn="l" pos="0"/>
                          <a:tab algn="l" pos="1517760"/>
                          <a:tab algn="l" pos="3035160"/>
                          <a:tab algn="l" pos="4552920"/>
                          <a:tab algn="l" pos="6070680"/>
                          <a:tab algn="l" pos="7588080"/>
                          <a:tab algn="l" pos="9105840"/>
                          <a:tab algn="l" pos="106236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568440" indent="-568440">
                        <a:tabLst>
                          <a:tab algn="l" pos="0"/>
                          <a:tab algn="l" pos="1517760"/>
                          <a:tab algn="l" pos="3035160"/>
                          <a:tab algn="l" pos="4552920"/>
                          <a:tab algn="l" pos="6070680"/>
                          <a:tab algn="l" pos="7588080"/>
                          <a:tab algn="l" pos="9105840"/>
                          <a:tab algn="l" pos="106236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568440" indent="-568440">
                        <a:tabLst>
                          <a:tab algn="l" pos="0"/>
                          <a:tab algn="l" pos="1517760"/>
                          <a:tab algn="l" pos="3035160"/>
                          <a:tab algn="l" pos="4552920"/>
                          <a:tab algn="l" pos="6070680"/>
                          <a:tab algn="l" pos="7588080"/>
                          <a:tab algn="l" pos="9105840"/>
                          <a:tab algn="l" pos="106236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568440" indent="-568440">
                        <a:tabLst>
                          <a:tab algn="l" pos="0"/>
                          <a:tab algn="l" pos="1517760"/>
                          <a:tab algn="l" pos="3035160"/>
                          <a:tab algn="l" pos="4552920"/>
                          <a:tab algn="l" pos="6070680"/>
                          <a:tab algn="l" pos="7588080"/>
                          <a:tab algn="l" pos="9105840"/>
                          <a:tab algn="l" pos="106236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568440" indent="-568440">
                        <a:tabLst>
                          <a:tab algn="l" pos="0"/>
                          <a:tab algn="l" pos="1517760"/>
                          <a:tab algn="l" pos="3035160"/>
                          <a:tab algn="l" pos="4552920"/>
                          <a:tab algn="l" pos="6070680"/>
                          <a:tab algn="l" pos="7588080"/>
                          <a:tab algn="l" pos="9105840"/>
                          <a:tab algn="l" pos="106236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ftware ba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568440" indent="-568440">
                        <a:tabLst>
                          <a:tab algn="l" pos="0"/>
                          <a:tab algn="l" pos="1517760"/>
                          <a:tab algn="l" pos="3035160"/>
                          <a:tab algn="l" pos="4552920"/>
                          <a:tab algn="l" pos="6070680"/>
                          <a:tab algn="l" pos="7588080"/>
                          <a:tab algn="l" pos="9105840"/>
                          <a:tab algn="l" pos="106236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568440" indent="-568440">
                        <a:tabLst>
                          <a:tab algn="l" pos="0"/>
                          <a:tab algn="l" pos="1517760"/>
                          <a:tab algn="l" pos="3035160"/>
                          <a:tab algn="l" pos="4552920"/>
                          <a:tab algn="l" pos="6070680"/>
                          <a:tab algn="l" pos="7588080"/>
                          <a:tab algn="l" pos="9105840"/>
                          <a:tab algn="l" pos="106236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568440" indent="-568440">
                        <a:tabLst>
                          <a:tab algn="l" pos="0"/>
                          <a:tab algn="l" pos="1517760"/>
                          <a:tab algn="l" pos="3035160"/>
                          <a:tab algn="l" pos="4552920"/>
                          <a:tab algn="l" pos="6070680"/>
                          <a:tab algn="l" pos="7588080"/>
                          <a:tab algn="l" pos="9105840"/>
                          <a:tab algn="l" pos="106236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568440" indent="-568440">
                        <a:tabLst>
                          <a:tab algn="l" pos="0"/>
                          <a:tab algn="l" pos="1517760"/>
                          <a:tab algn="l" pos="3035160"/>
                          <a:tab algn="l" pos="4552920"/>
                          <a:tab algn="l" pos="6070680"/>
                          <a:tab algn="l" pos="7588080"/>
                          <a:tab algn="l" pos="9105840"/>
                          <a:tab algn="l" pos="106236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568440" indent="-568440">
                        <a:tabLst>
                          <a:tab algn="l" pos="0"/>
                          <a:tab algn="l" pos="1517760"/>
                          <a:tab algn="l" pos="3035160"/>
                          <a:tab algn="l" pos="4552920"/>
                          <a:tab algn="l" pos="6070680"/>
                          <a:tab algn="l" pos="7588080"/>
                          <a:tab algn="l" pos="9105840"/>
                          <a:tab algn="l" pos="106236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568440" indent="-568440">
                        <a:tabLst>
                          <a:tab algn="l" pos="0"/>
                          <a:tab algn="l" pos="1517760"/>
                          <a:tab algn="l" pos="3035160"/>
                          <a:tab algn="l" pos="4552920"/>
                          <a:tab algn="l" pos="6070680"/>
                          <a:tab algn="l" pos="7588080"/>
                          <a:tab algn="l" pos="9105840"/>
                          <a:tab algn="l" pos="106236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568440" indent="-568440">
                        <a:tabLst>
                          <a:tab algn="l" pos="0"/>
                          <a:tab algn="l" pos="1517760"/>
                          <a:tab algn="l" pos="3035160"/>
                          <a:tab algn="l" pos="4552920"/>
                          <a:tab algn="l" pos="6070680"/>
                          <a:tab algn="l" pos="7588080"/>
                          <a:tab algn="l" pos="9105840"/>
                          <a:tab algn="l" pos="106236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568440" indent="-568440">
                        <a:tabLst>
                          <a:tab algn="l" pos="0"/>
                          <a:tab algn="l" pos="1517760"/>
                          <a:tab algn="l" pos="3035160"/>
                          <a:tab algn="l" pos="4552920"/>
                          <a:tab algn="l" pos="6070680"/>
                          <a:tab algn="l" pos="7588080"/>
                          <a:tab algn="l" pos="9105840"/>
                          <a:tab algn="l" pos="106236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568440" indent="-568440">
                        <a:tabLst>
                          <a:tab algn="l" pos="0"/>
                          <a:tab algn="l" pos="1517760"/>
                          <a:tab algn="l" pos="3035160"/>
                          <a:tab algn="l" pos="4552920"/>
                          <a:tab algn="l" pos="6070680"/>
                          <a:tab algn="l" pos="7588080"/>
                          <a:tab algn="l" pos="9105840"/>
                          <a:tab algn="l" pos="106236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568440" indent="-568440">
                        <a:tabLst>
                          <a:tab algn="l" pos="0"/>
                          <a:tab algn="l" pos="1517760"/>
                          <a:tab algn="l" pos="3035160"/>
                          <a:tab algn="l" pos="4552920"/>
                          <a:tab algn="l" pos="6070680"/>
                          <a:tab algn="l" pos="7588080"/>
                          <a:tab algn="l" pos="9105840"/>
                          <a:tab algn="l" pos="106236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stes 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568440" indent="-568440">
                        <a:tabLst>
                          <a:tab algn="l" pos="0"/>
                          <a:tab algn="l" pos="1517760"/>
                          <a:tab algn="l" pos="3035160"/>
                          <a:tab algn="l" pos="4552920"/>
                          <a:tab algn="l" pos="6070680"/>
                          <a:tab algn="l" pos="7588080"/>
                          <a:tab algn="l" pos="9105840"/>
                          <a:tab algn="l" pos="106236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568440" indent="-568440">
                        <a:tabLst>
                          <a:tab algn="l" pos="0"/>
                          <a:tab algn="l" pos="1517760"/>
                          <a:tab algn="l" pos="3035160"/>
                          <a:tab algn="l" pos="4552920"/>
                          <a:tab algn="l" pos="6070680"/>
                          <a:tab algn="l" pos="7588080"/>
                          <a:tab algn="l" pos="9105840"/>
                          <a:tab algn="l" pos="106236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568440" indent="-568440">
                        <a:tabLst>
                          <a:tab algn="l" pos="0"/>
                          <a:tab algn="l" pos="1517760"/>
                          <a:tab algn="l" pos="3035160"/>
                          <a:tab algn="l" pos="4552920"/>
                          <a:tab algn="l" pos="6070680"/>
                          <a:tab algn="l" pos="7588080"/>
                          <a:tab algn="l" pos="9105840"/>
                          <a:tab algn="l" pos="106236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568440" indent="-568440">
                        <a:tabLst>
                          <a:tab algn="l" pos="0"/>
                          <a:tab algn="l" pos="1517760"/>
                          <a:tab algn="l" pos="3035160"/>
                          <a:tab algn="l" pos="4552920"/>
                          <a:tab algn="l" pos="6070680"/>
                          <a:tab algn="l" pos="7588080"/>
                          <a:tab algn="l" pos="9105840"/>
                          <a:tab algn="l" pos="106236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568440" indent="-568440">
                        <a:tabLst>
                          <a:tab algn="l" pos="0"/>
                          <a:tab algn="l" pos="1517760"/>
                          <a:tab algn="l" pos="3035160"/>
                          <a:tab algn="l" pos="4552920"/>
                          <a:tab algn="l" pos="6070680"/>
                          <a:tab algn="l" pos="7588080"/>
                          <a:tab algn="l" pos="9105840"/>
                          <a:tab algn="l" pos="106236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568440" indent="-568440">
                        <a:tabLst>
                          <a:tab algn="l" pos="0"/>
                          <a:tab algn="l" pos="1517760"/>
                          <a:tab algn="l" pos="3035160"/>
                          <a:tab algn="l" pos="4552920"/>
                          <a:tab algn="l" pos="6070680"/>
                          <a:tab algn="l" pos="7588080"/>
                          <a:tab algn="l" pos="9105840"/>
                          <a:tab algn="l" pos="106236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568440" indent="-568440">
                        <a:tabLst>
                          <a:tab algn="l" pos="0"/>
                          <a:tab algn="l" pos="1517760"/>
                          <a:tab algn="l" pos="3035160"/>
                          <a:tab algn="l" pos="4552920"/>
                          <a:tab algn="l" pos="6070680"/>
                          <a:tab algn="l" pos="7588080"/>
                          <a:tab algn="l" pos="9105840"/>
                          <a:tab algn="l" pos="106236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568440" indent="-568440">
                        <a:tabLst>
                          <a:tab algn="l" pos="0"/>
                          <a:tab algn="l" pos="1517760"/>
                          <a:tab algn="l" pos="3035160"/>
                          <a:tab algn="l" pos="4552920"/>
                          <a:tab algn="l" pos="6070680"/>
                          <a:tab algn="l" pos="7588080"/>
                          <a:tab algn="l" pos="9105840"/>
                          <a:tab algn="l" pos="106236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568440" indent="-568440">
                        <a:tabLst>
                          <a:tab algn="l" pos="0"/>
                          <a:tab algn="l" pos="1517760"/>
                          <a:tab algn="l" pos="3035160"/>
                          <a:tab algn="l" pos="4552920"/>
                          <a:tab algn="l" pos="6070680"/>
                          <a:tab algn="l" pos="7588080"/>
                          <a:tab algn="l" pos="9105840"/>
                          <a:tab algn="l" pos="106236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568440" indent="-568440">
                        <a:tabLst>
                          <a:tab algn="l" pos="0"/>
                          <a:tab algn="l" pos="1517760"/>
                          <a:tab algn="l" pos="3035160"/>
                          <a:tab algn="l" pos="4552920"/>
                          <a:tab algn="l" pos="6070680"/>
                          <a:tab algn="l" pos="7588080"/>
                          <a:tab algn="l" pos="9105840"/>
                          <a:tab algn="l" pos="106236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finição do m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é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568440" indent="-568440">
                        <a:tabLst>
                          <a:tab algn="l" pos="0"/>
                          <a:tab algn="l" pos="1517760"/>
                          <a:tab algn="l" pos="3035160"/>
                          <a:tab algn="l" pos="4552920"/>
                          <a:tab algn="l" pos="6070680"/>
                          <a:tab algn="l" pos="7588080"/>
                          <a:tab algn="l" pos="9105840"/>
                          <a:tab algn="l" pos="106236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568440" indent="-568440">
                        <a:tabLst>
                          <a:tab algn="l" pos="0"/>
                          <a:tab algn="l" pos="1517760"/>
                          <a:tab algn="l" pos="3035160"/>
                          <a:tab algn="l" pos="4552920"/>
                          <a:tab algn="l" pos="6070680"/>
                          <a:tab algn="l" pos="7588080"/>
                          <a:tab algn="l" pos="9105840"/>
                          <a:tab algn="l" pos="106236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568440" indent="-568440">
                        <a:tabLst>
                          <a:tab algn="l" pos="0"/>
                          <a:tab algn="l" pos="1517760"/>
                          <a:tab algn="l" pos="3035160"/>
                          <a:tab algn="l" pos="4552920"/>
                          <a:tab algn="l" pos="6070680"/>
                          <a:tab algn="l" pos="7588080"/>
                          <a:tab algn="l" pos="9105840"/>
                          <a:tab algn="l" pos="106236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568440" indent="-568440">
                        <a:tabLst>
                          <a:tab algn="l" pos="0"/>
                          <a:tab algn="l" pos="1517760"/>
                          <a:tab algn="l" pos="3035160"/>
                          <a:tab algn="l" pos="4552920"/>
                          <a:tab algn="l" pos="6070680"/>
                          <a:tab algn="l" pos="7588080"/>
                          <a:tab algn="l" pos="9105840"/>
                          <a:tab algn="l" pos="106236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568440" indent="-568440">
                        <a:tabLst>
                          <a:tab algn="l" pos="0"/>
                          <a:tab algn="l" pos="1517760"/>
                          <a:tab algn="l" pos="3035160"/>
                          <a:tab algn="l" pos="4552920"/>
                          <a:tab algn="l" pos="6070680"/>
                          <a:tab algn="l" pos="7588080"/>
                          <a:tab algn="l" pos="9105840"/>
                          <a:tab algn="l" pos="106236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568440" indent="-568440">
                        <a:tabLst>
                          <a:tab algn="l" pos="0"/>
                          <a:tab algn="l" pos="1517760"/>
                          <a:tab algn="l" pos="3035160"/>
                          <a:tab algn="l" pos="4552920"/>
                          <a:tab algn="l" pos="6070680"/>
                          <a:tab algn="l" pos="7588080"/>
                          <a:tab algn="l" pos="9105840"/>
                          <a:tab algn="l" pos="106236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568440" indent="-568440">
                        <a:tabLst>
                          <a:tab algn="l" pos="0"/>
                          <a:tab algn="l" pos="1517760"/>
                          <a:tab algn="l" pos="3035160"/>
                          <a:tab algn="l" pos="4552920"/>
                          <a:tab algn="l" pos="6070680"/>
                          <a:tab algn="l" pos="7588080"/>
                          <a:tab algn="l" pos="9105840"/>
                          <a:tab algn="l" pos="106236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568440" indent="-568440">
                        <a:tabLst>
                          <a:tab algn="l" pos="0"/>
                          <a:tab algn="l" pos="1517760"/>
                          <a:tab algn="l" pos="3035160"/>
                          <a:tab algn="l" pos="4552920"/>
                          <a:tab algn="l" pos="6070680"/>
                          <a:tab algn="l" pos="7588080"/>
                          <a:tab algn="l" pos="9105840"/>
                          <a:tab algn="l" pos="106236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568440" indent="-568440">
                        <a:tabLst>
                          <a:tab algn="l" pos="0"/>
                          <a:tab algn="l" pos="1517760"/>
                          <a:tab algn="l" pos="3035160"/>
                          <a:tab algn="l" pos="4552920"/>
                          <a:tab algn="l" pos="6070680"/>
                          <a:tab algn="l" pos="7588080"/>
                          <a:tab algn="l" pos="9105840"/>
                          <a:tab algn="l" pos="106236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16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568440" indent="-568440">
                        <a:tabLst>
                          <a:tab algn="l" pos="0"/>
                          <a:tab algn="l" pos="1517760"/>
                          <a:tab algn="l" pos="3035160"/>
                          <a:tab algn="l" pos="4552920"/>
                          <a:tab algn="l" pos="6070680"/>
                          <a:tab algn="l" pos="7588080"/>
                          <a:tab algn="l" pos="9105840"/>
                          <a:tab algn="l" pos="106236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plementação Matlab Test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568440" indent="-568440">
                        <a:tabLst>
                          <a:tab algn="l" pos="0"/>
                          <a:tab algn="l" pos="1517760"/>
                          <a:tab algn="l" pos="3035160"/>
                          <a:tab algn="l" pos="4552920"/>
                          <a:tab algn="l" pos="6070680"/>
                          <a:tab algn="l" pos="7588080"/>
                          <a:tab algn="l" pos="9105840"/>
                          <a:tab algn="l" pos="106236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568440" indent="-568440">
                        <a:tabLst>
                          <a:tab algn="l" pos="0"/>
                          <a:tab algn="l" pos="1517760"/>
                          <a:tab algn="l" pos="3035160"/>
                          <a:tab algn="l" pos="4552920"/>
                          <a:tab algn="l" pos="6070680"/>
                          <a:tab algn="l" pos="7588080"/>
                          <a:tab algn="l" pos="9105840"/>
                          <a:tab algn="l" pos="106236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568440" indent="-568440">
                        <a:tabLst>
                          <a:tab algn="l" pos="0"/>
                          <a:tab algn="l" pos="1517760"/>
                          <a:tab algn="l" pos="3035160"/>
                          <a:tab algn="l" pos="4552920"/>
                          <a:tab algn="l" pos="6070680"/>
                          <a:tab algn="l" pos="7588080"/>
                          <a:tab algn="l" pos="9105840"/>
                          <a:tab algn="l" pos="106236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568440" indent="-568440">
                        <a:tabLst>
                          <a:tab algn="l" pos="0"/>
                          <a:tab algn="l" pos="1517760"/>
                          <a:tab algn="l" pos="3035160"/>
                          <a:tab algn="l" pos="4552920"/>
                          <a:tab algn="l" pos="6070680"/>
                          <a:tab algn="l" pos="7588080"/>
                          <a:tab algn="l" pos="9105840"/>
                          <a:tab algn="l" pos="106236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568440" indent="-568440">
                        <a:tabLst>
                          <a:tab algn="l" pos="0"/>
                          <a:tab algn="l" pos="1517760"/>
                          <a:tab algn="l" pos="3035160"/>
                          <a:tab algn="l" pos="4552920"/>
                          <a:tab algn="l" pos="6070680"/>
                          <a:tab algn="l" pos="7588080"/>
                          <a:tab algn="l" pos="9105840"/>
                          <a:tab algn="l" pos="106236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568440" indent="-568440">
                        <a:tabLst>
                          <a:tab algn="l" pos="0"/>
                          <a:tab algn="l" pos="1517760"/>
                          <a:tab algn="l" pos="3035160"/>
                          <a:tab algn="l" pos="4552920"/>
                          <a:tab algn="l" pos="6070680"/>
                          <a:tab algn="l" pos="7588080"/>
                          <a:tab algn="l" pos="9105840"/>
                          <a:tab algn="l" pos="106236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568440" indent="-568440">
                        <a:tabLst>
                          <a:tab algn="l" pos="0"/>
                          <a:tab algn="l" pos="1517760"/>
                          <a:tab algn="l" pos="3035160"/>
                          <a:tab algn="l" pos="4552920"/>
                          <a:tab algn="l" pos="6070680"/>
                          <a:tab algn="l" pos="7588080"/>
                          <a:tab algn="l" pos="9105840"/>
                          <a:tab algn="l" pos="106236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568440" indent="-568440">
                        <a:tabLst>
                          <a:tab algn="l" pos="0"/>
                          <a:tab algn="l" pos="1517760"/>
                          <a:tab algn="l" pos="3035160"/>
                          <a:tab algn="l" pos="4552920"/>
                          <a:tab algn="l" pos="6070680"/>
                          <a:tab algn="l" pos="7588080"/>
                          <a:tab algn="l" pos="9105840"/>
                          <a:tab algn="l" pos="106236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568440" indent="-568440">
                        <a:tabLst>
                          <a:tab algn="l" pos="0"/>
                          <a:tab algn="l" pos="1517760"/>
                          <a:tab algn="l" pos="3035160"/>
                          <a:tab algn="l" pos="4552920"/>
                          <a:tab algn="l" pos="6070680"/>
                          <a:tab algn="l" pos="7588080"/>
                          <a:tab algn="l" pos="9105840"/>
                          <a:tab algn="l" pos="106236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568440" indent="-568440">
                        <a:tabLst>
                          <a:tab algn="l" pos="0"/>
                          <a:tab algn="l" pos="1517760"/>
                          <a:tab algn="l" pos="3035160"/>
                          <a:tab algn="l" pos="4552920"/>
                          <a:tab algn="l" pos="6070680"/>
                          <a:tab algn="l" pos="7588080"/>
                          <a:tab algn="l" pos="9105840"/>
                          <a:tab algn="l" pos="106236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plementação 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568440" indent="-568440">
                        <a:tabLst>
                          <a:tab algn="l" pos="0"/>
                          <a:tab algn="l" pos="1517760"/>
                          <a:tab algn="l" pos="3035160"/>
                          <a:tab algn="l" pos="4552920"/>
                          <a:tab algn="l" pos="6070680"/>
                          <a:tab algn="l" pos="7588080"/>
                          <a:tab algn="l" pos="9105840"/>
                          <a:tab algn="l" pos="106236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568440" indent="-568440">
                        <a:tabLst>
                          <a:tab algn="l" pos="0"/>
                          <a:tab algn="l" pos="1517760"/>
                          <a:tab algn="l" pos="3035160"/>
                          <a:tab algn="l" pos="4552920"/>
                          <a:tab algn="l" pos="6070680"/>
                          <a:tab algn="l" pos="7588080"/>
                          <a:tab algn="l" pos="9105840"/>
                          <a:tab algn="l" pos="106236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568440" indent="-568440">
                        <a:tabLst>
                          <a:tab algn="l" pos="0"/>
                          <a:tab algn="l" pos="1517760"/>
                          <a:tab algn="l" pos="3035160"/>
                          <a:tab algn="l" pos="4552920"/>
                          <a:tab algn="l" pos="6070680"/>
                          <a:tab algn="l" pos="7588080"/>
                          <a:tab algn="l" pos="9105840"/>
                          <a:tab algn="l" pos="106236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568440" indent="-568440">
                        <a:tabLst>
                          <a:tab algn="l" pos="0"/>
                          <a:tab algn="l" pos="1517760"/>
                          <a:tab algn="l" pos="3035160"/>
                          <a:tab algn="l" pos="4552920"/>
                          <a:tab algn="l" pos="6070680"/>
                          <a:tab algn="l" pos="7588080"/>
                          <a:tab algn="l" pos="9105840"/>
                          <a:tab algn="l" pos="106236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568440" indent="-568440">
                        <a:tabLst>
                          <a:tab algn="l" pos="0"/>
                          <a:tab algn="l" pos="1517760"/>
                          <a:tab algn="l" pos="3035160"/>
                          <a:tab algn="l" pos="4552920"/>
                          <a:tab algn="l" pos="6070680"/>
                          <a:tab algn="l" pos="7588080"/>
                          <a:tab algn="l" pos="9105840"/>
                          <a:tab algn="l" pos="106236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568440" indent="-568440">
                        <a:tabLst>
                          <a:tab algn="l" pos="0"/>
                          <a:tab algn="l" pos="1517760"/>
                          <a:tab algn="l" pos="3035160"/>
                          <a:tab algn="l" pos="4552920"/>
                          <a:tab algn="l" pos="6070680"/>
                          <a:tab algn="l" pos="7588080"/>
                          <a:tab algn="l" pos="9105840"/>
                          <a:tab algn="l" pos="106236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568440" indent="-568440">
                        <a:tabLst>
                          <a:tab algn="l" pos="0"/>
                          <a:tab algn="l" pos="1517760"/>
                          <a:tab algn="l" pos="3035160"/>
                          <a:tab algn="l" pos="4552920"/>
                          <a:tab algn="l" pos="6070680"/>
                          <a:tab algn="l" pos="7588080"/>
                          <a:tab algn="l" pos="9105840"/>
                          <a:tab algn="l" pos="106236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568440" indent="-568440">
                        <a:tabLst>
                          <a:tab algn="l" pos="0"/>
                          <a:tab algn="l" pos="1517760"/>
                          <a:tab algn="l" pos="3035160"/>
                          <a:tab algn="l" pos="4552920"/>
                          <a:tab algn="l" pos="6070680"/>
                          <a:tab algn="l" pos="7588080"/>
                          <a:tab algn="l" pos="9105840"/>
                          <a:tab algn="l" pos="106236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568440" indent="-568440">
                        <a:tabLst>
                          <a:tab algn="l" pos="0"/>
                          <a:tab algn="l" pos="1517760"/>
                          <a:tab algn="l" pos="3035160"/>
                          <a:tab algn="l" pos="4552920"/>
                          <a:tab algn="l" pos="6070680"/>
                          <a:tab algn="l" pos="7588080"/>
                          <a:tab algn="l" pos="9105840"/>
                          <a:tab algn="l" pos="106236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568440" indent="-568440">
                        <a:tabLst>
                          <a:tab algn="l" pos="0"/>
                          <a:tab algn="l" pos="1517760"/>
                          <a:tab algn="l" pos="3035160"/>
                          <a:tab algn="l" pos="4552920"/>
                          <a:tab algn="l" pos="6070680"/>
                          <a:tab algn="l" pos="7588080"/>
                          <a:tab algn="l" pos="9105840"/>
                          <a:tab algn="l" pos="106236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stes  Performa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568440" indent="-568440">
                        <a:tabLst>
                          <a:tab algn="l" pos="0"/>
                          <a:tab algn="l" pos="1517760"/>
                          <a:tab algn="l" pos="3035160"/>
                          <a:tab algn="l" pos="4552920"/>
                          <a:tab algn="l" pos="6070680"/>
                          <a:tab algn="l" pos="7588080"/>
                          <a:tab algn="l" pos="9105840"/>
                          <a:tab algn="l" pos="106236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568440" indent="-568440">
                        <a:tabLst>
                          <a:tab algn="l" pos="0"/>
                          <a:tab algn="l" pos="1517760"/>
                          <a:tab algn="l" pos="3035160"/>
                          <a:tab algn="l" pos="4552920"/>
                          <a:tab algn="l" pos="6070680"/>
                          <a:tab algn="l" pos="7588080"/>
                          <a:tab algn="l" pos="9105840"/>
                          <a:tab algn="l" pos="106236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568440" indent="-568440">
                        <a:tabLst>
                          <a:tab algn="l" pos="0"/>
                          <a:tab algn="l" pos="1517760"/>
                          <a:tab algn="l" pos="3035160"/>
                          <a:tab algn="l" pos="4552920"/>
                          <a:tab algn="l" pos="6070680"/>
                          <a:tab algn="l" pos="7588080"/>
                          <a:tab algn="l" pos="9105840"/>
                          <a:tab algn="l" pos="106236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568440" indent="-568440">
                        <a:tabLst>
                          <a:tab algn="l" pos="0"/>
                          <a:tab algn="l" pos="1517760"/>
                          <a:tab algn="l" pos="3035160"/>
                          <a:tab algn="l" pos="4552920"/>
                          <a:tab algn="l" pos="6070680"/>
                          <a:tab algn="l" pos="7588080"/>
                          <a:tab algn="l" pos="9105840"/>
                          <a:tab algn="l" pos="106236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568440" indent="-568440">
                        <a:tabLst>
                          <a:tab algn="l" pos="0"/>
                          <a:tab algn="l" pos="1517760"/>
                          <a:tab algn="l" pos="3035160"/>
                          <a:tab algn="l" pos="4552920"/>
                          <a:tab algn="l" pos="6070680"/>
                          <a:tab algn="l" pos="7588080"/>
                          <a:tab algn="l" pos="9105840"/>
                          <a:tab algn="l" pos="106236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568440" indent="-568440">
                        <a:tabLst>
                          <a:tab algn="l" pos="0"/>
                          <a:tab algn="l" pos="1517760"/>
                          <a:tab algn="l" pos="3035160"/>
                          <a:tab algn="l" pos="4552920"/>
                          <a:tab algn="l" pos="6070680"/>
                          <a:tab algn="l" pos="7588080"/>
                          <a:tab algn="l" pos="9105840"/>
                          <a:tab algn="l" pos="106236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568440" indent="-568440">
                        <a:tabLst>
                          <a:tab algn="l" pos="0"/>
                          <a:tab algn="l" pos="1517760"/>
                          <a:tab algn="l" pos="3035160"/>
                          <a:tab algn="l" pos="4552920"/>
                          <a:tab algn="l" pos="6070680"/>
                          <a:tab algn="l" pos="7588080"/>
                          <a:tab algn="l" pos="9105840"/>
                          <a:tab algn="l" pos="106236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568440" indent="-568440">
                        <a:tabLst>
                          <a:tab algn="l" pos="0"/>
                          <a:tab algn="l" pos="1517760"/>
                          <a:tab algn="l" pos="3035160"/>
                          <a:tab algn="l" pos="4552920"/>
                          <a:tab algn="l" pos="6070680"/>
                          <a:tab algn="l" pos="7588080"/>
                          <a:tab algn="l" pos="9105840"/>
                          <a:tab algn="l" pos="106236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568440" indent="-568440">
                        <a:tabLst>
                          <a:tab algn="l" pos="0"/>
                          <a:tab algn="l" pos="1517760"/>
                          <a:tab algn="l" pos="3035160"/>
                          <a:tab algn="l" pos="4552920"/>
                          <a:tab algn="l" pos="6070680"/>
                          <a:tab algn="l" pos="7588080"/>
                          <a:tab algn="l" pos="9105840"/>
                          <a:tab algn="l" pos="106236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568440" indent="-568440">
                        <a:tabLst>
                          <a:tab algn="l" pos="0"/>
                          <a:tab algn="l" pos="1517760"/>
                          <a:tab algn="l" pos="3035160"/>
                          <a:tab algn="l" pos="4552920"/>
                          <a:tab algn="l" pos="6070680"/>
                          <a:tab algn="l" pos="7588080"/>
                          <a:tab algn="l" pos="9105840"/>
                          <a:tab algn="l" pos="106236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ca Interfa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568440" indent="-568440">
                        <a:tabLst>
                          <a:tab algn="l" pos="0"/>
                          <a:tab algn="l" pos="1517760"/>
                          <a:tab algn="l" pos="3035160"/>
                          <a:tab algn="l" pos="4552920"/>
                          <a:tab algn="l" pos="6070680"/>
                          <a:tab algn="l" pos="7588080"/>
                          <a:tab algn="l" pos="9105840"/>
                          <a:tab algn="l" pos="106236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568440" indent="-568440">
                        <a:tabLst>
                          <a:tab algn="l" pos="0"/>
                          <a:tab algn="l" pos="1517760"/>
                          <a:tab algn="l" pos="3035160"/>
                          <a:tab algn="l" pos="4552920"/>
                          <a:tab algn="l" pos="6070680"/>
                          <a:tab algn="l" pos="7588080"/>
                          <a:tab algn="l" pos="9105840"/>
                          <a:tab algn="l" pos="106236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568440" indent="-568440">
                        <a:tabLst>
                          <a:tab algn="l" pos="0"/>
                          <a:tab algn="l" pos="1517760"/>
                          <a:tab algn="l" pos="3035160"/>
                          <a:tab algn="l" pos="4552920"/>
                          <a:tab algn="l" pos="6070680"/>
                          <a:tab algn="l" pos="7588080"/>
                          <a:tab algn="l" pos="9105840"/>
                          <a:tab algn="l" pos="106236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568440" indent="-568440">
                        <a:tabLst>
                          <a:tab algn="l" pos="0"/>
                          <a:tab algn="l" pos="1517760"/>
                          <a:tab algn="l" pos="3035160"/>
                          <a:tab algn="l" pos="4552920"/>
                          <a:tab algn="l" pos="6070680"/>
                          <a:tab algn="l" pos="7588080"/>
                          <a:tab algn="l" pos="9105840"/>
                          <a:tab algn="l" pos="106236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568440" indent="-568440">
                        <a:tabLst>
                          <a:tab algn="l" pos="0"/>
                          <a:tab algn="l" pos="1517760"/>
                          <a:tab algn="l" pos="3035160"/>
                          <a:tab algn="l" pos="4552920"/>
                          <a:tab algn="l" pos="6070680"/>
                          <a:tab algn="l" pos="7588080"/>
                          <a:tab algn="l" pos="9105840"/>
                          <a:tab algn="l" pos="106236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568440" indent="-568440">
                        <a:tabLst>
                          <a:tab algn="l" pos="0"/>
                          <a:tab algn="l" pos="1517760"/>
                          <a:tab algn="l" pos="3035160"/>
                          <a:tab algn="l" pos="4552920"/>
                          <a:tab algn="l" pos="6070680"/>
                          <a:tab algn="l" pos="7588080"/>
                          <a:tab algn="l" pos="9105840"/>
                          <a:tab algn="l" pos="106236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568440" indent="-568440">
                        <a:tabLst>
                          <a:tab algn="l" pos="0"/>
                          <a:tab algn="l" pos="1517760"/>
                          <a:tab algn="l" pos="3035160"/>
                          <a:tab algn="l" pos="4552920"/>
                          <a:tab algn="l" pos="6070680"/>
                          <a:tab algn="l" pos="7588080"/>
                          <a:tab algn="l" pos="9105840"/>
                          <a:tab algn="l" pos="106236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568440" indent="-568440">
                        <a:tabLst>
                          <a:tab algn="l" pos="0"/>
                          <a:tab algn="l" pos="1517760"/>
                          <a:tab algn="l" pos="3035160"/>
                          <a:tab algn="l" pos="4552920"/>
                          <a:tab algn="l" pos="6070680"/>
                          <a:tab algn="l" pos="7588080"/>
                          <a:tab algn="l" pos="9105840"/>
                          <a:tab algn="l" pos="106236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568440" indent="-568440">
                        <a:tabLst>
                          <a:tab algn="l" pos="0"/>
                          <a:tab algn="l" pos="1517760"/>
                          <a:tab algn="l" pos="3035160"/>
                          <a:tab algn="l" pos="4552920"/>
                          <a:tab algn="l" pos="6070680"/>
                          <a:tab algn="l" pos="7588080"/>
                          <a:tab algn="l" pos="9105840"/>
                          <a:tab algn="l" pos="106236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568440" indent="-568440">
                        <a:tabLst>
                          <a:tab algn="l" pos="0"/>
                          <a:tab algn="l" pos="1517760"/>
                          <a:tab algn="l" pos="3035160"/>
                          <a:tab algn="l" pos="4552920"/>
                          <a:tab algn="l" pos="6070680"/>
                          <a:tab algn="l" pos="7588080"/>
                          <a:tab algn="l" pos="9105840"/>
                          <a:tab algn="l" pos="106236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andos para Seri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568440" indent="-568440">
                        <a:tabLst>
                          <a:tab algn="l" pos="0"/>
                          <a:tab algn="l" pos="1517760"/>
                          <a:tab algn="l" pos="3035160"/>
                          <a:tab algn="l" pos="4552920"/>
                          <a:tab algn="l" pos="6070680"/>
                          <a:tab algn="l" pos="7588080"/>
                          <a:tab algn="l" pos="9105840"/>
                          <a:tab algn="l" pos="106236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568440" indent="-568440">
                        <a:tabLst>
                          <a:tab algn="l" pos="0"/>
                          <a:tab algn="l" pos="1517760"/>
                          <a:tab algn="l" pos="3035160"/>
                          <a:tab algn="l" pos="4552920"/>
                          <a:tab algn="l" pos="6070680"/>
                          <a:tab algn="l" pos="7588080"/>
                          <a:tab algn="l" pos="9105840"/>
                          <a:tab algn="l" pos="106236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568440" indent="-568440">
                        <a:tabLst>
                          <a:tab algn="l" pos="0"/>
                          <a:tab algn="l" pos="1517760"/>
                          <a:tab algn="l" pos="3035160"/>
                          <a:tab algn="l" pos="4552920"/>
                          <a:tab algn="l" pos="6070680"/>
                          <a:tab algn="l" pos="7588080"/>
                          <a:tab algn="l" pos="9105840"/>
                          <a:tab algn="l" pos="106236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568440" indent="-568440">
                        <a:tabLst>
                          <a:tab algn="l" pos="0"/>
                          <a:tab algn="l" pos="1517760"/>
                          <a:tab algn="l" pos="3035160"/>
                          <a:tab algn="l" pos="4552920"/>
                          <a:tab algn="l" pos="6070680"/>
                          <a:tab algn="l" pos="7588080"/>
                          <a:tab algn="l" pos="9105840"/>
                          <a:tab algn="l" pos="106236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568440" indent="-568440">
                        <a:tabLst>
                          <a:tab algn="l" pos="0"/>
                          <a:tab algn="l" pos="1517760"/>
                          <a:tab algn="l" pos="3035160"/>
                          <a:tab algn="l" pos="4552920"/>
                          <a:tab algn="l" pos="6070680"/>
                          <a:tab algn="l" pos="7588080"/>
                          <a:tab algn="l" pos="9105840"/>
                          <a:tab algn="l" pos="106236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568440" indent="-568440">
                        <a:tabLst>
                          <a:tab algn="l" pos="0"/>
                          <a:tab algn="l" pos="1517760"/>
                          <a:tab algn="l" pos="3035160"/>
                          <a:tab algn="l" pos="4552920"/>
                          <a:tab algn="l" pos="6070680"/>
                          <a:tab algn="l" pos="7588080"/>
                          <a:tab algn="l" pos="9105840"/>
                          <a:tab algn="l" pos="106236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568440" indent="-568440">
                        <a:tabLst>
                          <a:tab algn="l" pos="0"/>
                          <a:tab algn="l" pos="1517760"/>
                          <a:tab algn="l" pos="3035160"/>
                          <a:tab algn="l" pos="4552920"/>
                          <a:tab algn="l" pos="6070680"/>
                          <a:tab algn="l" pos="7588080"/>
                          <a:tab algn="l" pos="9105840"/>
                          <a:tab algn="l" pos="106236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568440" indent="-568440">
                        <a:tabLst>
                          <a:tab algn="l" pos="0"/>
                          <a:tab algn="l" pos="1517760"/>
                          <a:tab algn="l" pos="3035160"/>
                          <a:tab algn="l" pos="4552920"/>
                          <a:tab algn="l" pos="6070680"/>
                          <a:tab algn="l" pos="7588080"/>
                          <a:tab algn="l" pos="9105840"/>
                          <a:tab algn="l" pos="106236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568440" indent="-568440">
                        <a:tabLst>
                          <a:tab algn="l" pos="0"/>
                          <a:tab algn="l" pos="1517760"/>
                          <a:tab algn="l" pos="3035160"/>
                          <a:tab algn="l" pos="4552920"/>
                          <a:tab algn="l" pos="6070680"/>
                          <a:tab algn="l" pos="7588080"/>
                          <a:tab algn="l" pos="9105840"/>
                          <a:tab algn="l" pos="106236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1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568440" indent="-568440">
                        <a:tabLst>
                          <a:tab algn="l" pos="0"/>
                          <a:tab algn="l" pos="1517760"/>
                          <a:tab algn="l" pos="3035160"/>
                          <a:tab algn="l" pos="4552920"/>
                          <a:tab algn="l" pos="6070680"/>
                          <a:tab algn="l" pos="7588080"/>
                          <a:tab algn="l" pos="9105840"/>
                          <a:tab algn="l" pos="106236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paração apresentaçã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568440" indent="-568440">
                        <a:tabLst>
                          <a:tab algn="l" pos="0"/>
                          <a:tab algn="l" pos="1517760"/>
                          <a:tab algn="l" pos="3035160"/>
                          <a:tab algn="l" pos="4552920"/>
                          <a:tab algn="l" pos="6070680"/>
                          <a:tab algn="l" pos="7588080"/>
                          <a:tab algn="l" pos="9105840"/>
                          <a:tab algn="l" pos="106236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568440" indent="-568440">
                        <a:tabLst>
                          <a:tab algn="l" pos="0"/>
                          <a:tab algn="l" pos="1517760"/>
                          <a:tab algn="l" pos="3035160"/>
                          <a:tab algn="l" pos="4552920"/>
                          <a:tab algn="l" pos="6070680"/>
                          <a:tab algn="l" pos="7588080"/>
                          <a:tab algn="l" pos="9105840"/>
                          <a:tab algn="l" pos="106236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568440" indent="-568440">
                        <a:tabLst>
                          <a:tab algn="l" pos="0"/>
                          <a:tab algn="l" pos="1517760"/>
                          <a:tab algn="l" pos="3035160"/>
                          <a:tab algn="l" pos="4552920"/>
                          <a:tab algn="l" pos="6070680"/>
                          <a:tab algn="l" pos="7588080"/>
                          <a:tab algn="l" pos="9105840"/>
                          <a:tab algn="l" pos="106236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568440" indent="-568440">
                        <a:tabLst>
                          <a:tab algn="l" pos="0"/>
                          <a:tab algn="l" pos="1517760"/>
                          <a:tab algn="l" pos="3035160"/>
                          <a:tab algn="l" pos="4552920"/>
                          <a:tab algn="l" pos="6070680"/>
                          <a:tab algn="l" pos="7588080"/>
                          <a:tab algn="l" pos="9105840"/>
                          <a:tab algn="l" pos="106236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568440" indent="-568440">
                        <a:tabLst>
                          <a:tab algn="l" pos="0"/>
                          <a:tab algn="l" pos="1517760"/>
                          <a:tab algn="l" pos="3035160"/>
                          <a:tab algn="l" pos="4552920"/>
                          <a:tab algn="l" pos="6070680"/>
                          <a:tab algn="l" pos="7588080"/>
                          <a:tab algn="l" pos="9105840"/>
                          <a:tab algn="l" pos="106236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568440" indent="-568440">
                        <a:tabLst>
                          <a:tab algn="l" pos="0"/>
                          <a:tab algn="l" pos="1517760"/>
                          <a:tab algn="l" pos="3035160"/>
                          <a:tab algn="l" pos="4552920"/>
                          <a:tab algn="l" pos="6070680"/>
                          <a:tab algn="l" pos="7588080"/>
                          <a:tab algn="l" pos="9105840"/>
                          <a:tab algn="l" pos="106236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568440" indent="-568440">
                        <a:tabLst>
                          <a:tab algn="l" pos="0"/>
                          <a:tab algn="l" pos="1517760"/>
                          <a:tab algn="l" pos="3035160"/>
                          <a:tab algn="l" pos="4552920"/>
                          <a:tab algn="l" pos="6070680"/>
                          <a:tab algn="l" pos="7588080"/>
                          <a:tab algn="l" pos="9105840"/>
                          <a:tab algn="l" pos="106236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568440" indent="-568440">
                        <a:tabLst>
                          <a:tab algn="l" pos="0"/>
                          <a:tab algn="l" pos="1517760"/>
                          <a:tab algn="l" pos="3035160"/>
                          <a:tab algn="l" pos="4552920"/>
                          <a:tab algn="l" pos="6070680"/>
                          <a:tab algn="l" pos="7588080"/>
                          <a:tab algn="l" pos="9105840"/>
                          <a:tab algn="l" pos="106236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568440" indent="-568440">
                        <a:tabLst>
                          <a:tab algn="l" pos="0"/>
                          <a:tab algn="l" pos="1517760"/>
                          <a:tab algn="l" pos="3035160"/>
                          <a:tab algn="l" pos="4552920"/>
                          <a:tab algn="l" pos="6070680"/>
                          <a:tab algn="l" pos="7588080"/>
                          <a:tab algn="l" pos="9105840"/>
                          <a:tab algn="l" pos="106236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48" name=""/>
          <p:cNvGraphicFramePr/>
          <p:nvPr/>
        </p:nvGraphicFramePr>
        <p:xfrm>
          <a:off x="828720" y="5221440"/>
          <a:ext cx="6889680" cy="3719520"/>
        </p:xfrm>
        <a:graphic>
          <a:graphicData uri="http://schemas.openxmlformats.org/drawingml/2006/table">
            <a:tbl>
              <a:tblPr/>
              <a:tblGrid>
                <a:gridCol w="5425920"/>
                <a:gridCol w="1463760"/>
              </a:tblGrid>
              <a:tr h="34488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568440" indent="-568440" algn="ctr">
                        <a:tabLst>
                          <a:tab algn="l" pos="0"/>
                          <a:tab algn="l" pos="1517760"/>
                          <a:tab algn="l" pos="3035160"/>
                          <a:tab algn="l" pos="4552920"/>
                          <a:tab algn="l" pos="6070680"/>
                          <a:tab algn="l" pos="7588080"/>
                          <a:tab algn="l" pos="9105840"/>
                          <a:tab algn="l" pos="106236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liza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568440" indent="-568440">
                        <a:tabLst>
                          <a:tab algn="l" pos="0"/>
                          <a:tab algn="l" pos="1517760"/>
                          <a:tab algn="l" pos="3035160"/>
                          <a:tab algn="l" pos="4552920"/>
                          <a:tab algn="l" pos="6070680"/>
                          <a:tab algn="l" pos="7588080"/>
                          <a:tab algn="l" pos="9105840"/>
                          <a:tab algn="l" pos="106236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nograf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568440" indent="-568440" algn="r">
                        <a:tabLst>
                          <a:tab algn="l" pos="0"/>
                          <a:tab algn="l" pos="1517760"/>
                          <a:tab algn="l" pos="3035160"/>
                          <a:tab algn="l" pos="4552920"/>
                          <a:tab algn="l" pos="6070680"/>
                          <a:tab algn="l" pos="7588080"/>
                          <a:tab algn="l" pos="9105840"/>
                          <a:tab algn="l" pos="106236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568440" indent="-568440">
                        <a:tabLst>
                          <a:tab algn="l" pos="0"/>
                          <a:tab algn="l" pos="1517760"/>
                          <a:tab algn="l" pos="3035160"/>
                          <a:tab algn="l" pos="4552920"/>
                          <a:tab algn="l" pos="6070680"/>
                          <a:tab algn="l" pos="7588080"/>
                          <a:tab algn="l" pos="9105840"/>
                          <a:tab algn="l" pos="106236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ftware ba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568440" indent="-568440" algn="r">
                        <a:tabLst>
                          <a:tab algn="l" pos="0"/>
                          <a:tab algn="l" pos="1517760"/>
                          <a:tab algn="l" pos="3035160"/>
                          <a:tab algn="l" pos="4552920"/>
                          <a:tab algn="l" pos="6070680"/>
                          <a:tab algn="l" pos="7588080"/>
                          <a:tab algn="l" pos="9105840"/>
                          <a:tab algn="l" pos="106236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568440" indent="-568440">
                        <a:tabLst>
                          <a:tab algn="l" pos="0"/>
                          <a:tab algn="l" pos="1517760"/>
                          <a:tab algn="l" pos="3035160"/>
                          <a:tab algn="l" pos="4552920"/>
                          <a:tab algn="l" pos="6070680"/>
                          <a:tab algn="l" pos="7588080"/>
                          <a:tab algn="l" pos="9105840"/>
                          <a:tab algn="l" pos="106236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stes 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568440" indent="-568440" algn="r">
                        <a:tabLst>
                          <a:tab algn="l" pos="0"/>
                          <a:tab algn="l" pos="1517760"/>
                          <a:tab algn="l" pos="3035160"/>
                          <a:tab algn="l" pos="4552920"/>
                          <a:tab algn="l" pos="6070680"/>
                          <a:tab algn="l" pos="7588080"/>
                          <a:tab algn="l" pos="9105840"/>
                          <a:tab algn="l" pos="106236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568440" indent="-568440">
                        <a:tabLst>
                          <a:tab algn="l" pos="0"/>
                          <a:tab algn="l" pos="1517760"/>
                          <a:tab algn="l" pos="3035160"/>
                          <a:tab algn="l" pos="4552920"/>
                          <a:tab algn="l" pos="6070680"/>
                          <a:tab algn="l" pos="7588080"/>
                          <a:tab algn="l" pos="9105840"/>
                          <a:tab algn="l" pos="106236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finição do méto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568440" indent="-568440" algn="r">
                        <a:tabLst>
                          <a:tab algn="l" pos="0"/>
                          <a:tab algn="l" pos="1517760"/>
                          <a:tab algn="l" pos="3035160"/>
                          <a:tab algn="l" pos="4552920"/>
                          <a:tab algn="l" pos="6070680"/>
                          <a:tab algn="l" pos="7588080"/>
                          <a:tab algn="l" pos="9105840"/>
                          <a:tab algn="l" pos="106236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568440" indent="-568440">
                        <a:tabLst>
                          <a:tab algn="l" pos="0"/>
                          <a:tab algn="l" pos="1517760"/>
                          <a:tab algn="l" pos="3035160"/>
                          <a:tab algn="l" pos="4552920"/>
                          <a:tab algn="l" pos="6070680"/>
                          <a:tab algn="l" pos="7588080"/>
                          <a:tab algn="l" pos="9105840"/>
                          <a:tab algn="l" pos="106236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plementação Matlab Test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568440" indent="-568440" algn="r">
                        <a:tabLst>
                          <a:tab algn="l" pos="0"/>
                          <a:tab algn="l" pos="1517760"/>
                          <a:tab algn="l" pos="3035160"/>
                          <a:tab algn="l" pos="4552920"/>
                          <a:tab algn="l" pos="6070680"/>
                          <a:tab algn="l" pos="7588080"/>
                          <a:tab algn="l" pos="9105840"/>
                          <a:tab algn="l" pos="106236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568440" indent="-568440">
                        <a:tabLst>
                          <a:tab algn="l" pos="0"/>
                          <a:tab algn="l" pos="1517760"/>
                          <a:tab algn="l" pos="3035160"/>
                          <a:tab algn="l" pos="4552920"/>
                          <a:tab algn="l" pos="6070680"/>
                          <a:tab algn="l" pos="7588080"/>
                          <a:tab algn="l" pos="9105840"/>
                          <a:tab algn="l" pos="106236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plementação 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568440" indent="-568440" algn="r">
                        <a:tabLst>
                          <a:tab algn="l" pos="0"/>
                          <a:tab algn="l" pos="1517760"/>
                          <a:tab algn="l" pos="3035160"/>
                          <a:tab algn="l" pos="4552920"/>
                          <a:tab algn="l" pos="6070680"/>
                          <a:tab algn="l" pos="7588080"/>
                          <a:tab algn="l" pos="9105840"/>
                          <a:tab algn="l" pos="106236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568440" indent="-568440">
                        <a:tabLst>
                          <a:tab algn="l" pos="0"/>
                          <a:tab algn="l" pos="1517760"/>
                          <a:tab algn="l" pos="3035160"/>
                          <a:tab algn="l" pos="4552920"/>
                          <a:tab algn="l" pos="6070680"/>
                          <a:tab algn="l" pos="7588080"/>
                          <a:tab algn="l" pos="9105840"/>
                          <a:tab algn="l" pos="106236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stes  Performa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568440" indent="-568440" algn="r">
                        <a:tabLst>
                          <a:tab algn="l" pos="0"/>
                          <a:tab algn="l" pos="1517760"/>
                          <a:tab algn="l" pos="3035160"/>
                          <a:tab algn="l" pos="4552920"/>
                          <a:tab algn="l" pos="6070680"/>
                          <a:tab algn="l" pos="7588080"/>
                          <a:tab algn="l" pos="9105840"/>
                          <a:tab algn="l" pos="106236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568440" indent="-568440">
                        <a:tabLst>
                          <a:tab algn="l" pos="0"/>
                          <a:tab algn="l" pos="1517760"/>
                          <a:tab algn="l" pos="3035160"/>
                          <a:tab algn="l" pos="4552920"/>
                          <a:tab algn="l" pos="6070680"/>
                          <a:tab algn="l" pos="7588080"/>
                          <a:tab algn="l" pos="9105840"/>
                          <a:tab algn="l" pos="106236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ca Interfa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568440" indent="-568440" algn="r">
                        <a:tabLst>
                          <a:tab algn="l" pos="0"/>
                          <a:tab algn="l" pos="1517760"/>
                          <a:tab algn="l" pos="3035160"/>
                          <a:tab algn="l" pos="4552920"/>
                          <a:tab algn="l" pos="6070680"/>
                          <a:tab algn="l" pos="7588080"/>
                          <a:tab algn="l" pos="9105840"/>
                          <a:tab algn="l" pos="106236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568440" indent="-568440">
                        <a:tabLst>
                          <a:tab algn="l" pos="0"/>
                          <a:tab algn="l" pos="1517760"/>
                          <a:tab algn="l" pos="3035160"/>
                          <a:tab algn="l" pos="4552920"/>
                          <a:tab algn="l" pos="6070680"/>
                          <a:tab algn="l" pos="7588080"/>
                          <a:tab algn="l" pos="9105840"/>
                          <a:tab algn="l" pos="106236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andos para Seri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568440" indent="-568440" algn="r">
                        <a:tabLst>
                          <a:tab algn="l" pos="0"/>
                          <a:tab algn="l" pos="1517760"/>
                          <a:tab algn="l" pos="3035160"/>
                          <a:tab algn="l" pos="4552920"/>
                          <a:tab algn="l" pos="6070680"/>
                          <a:tab algn="l" pos="7588080"/>
                          <a:tab algn="l" pos="9105840"/>
                          <a:tab algn="l" pos="106236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1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568440" indent="-568440">
                        <a:tabLst>
                          <a:tab algn="l" pos="0"/>
                          <a:tab algn="l" pos="1517760"/>
                          <a:tab algn="l" pos="3035160"/>
                          <a:tab algn="l" pos="4552920"/>
                          <a:tab algn="l" pos="6070680"/>
                          <a:tab algn="l" pos="7588080"/>
                          <a:tab algn="l" pos="9105840"/>
                          <a:tab algn="l" pos="106236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paração apresentaçã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568440" indent="-568440" algn="r">
                        <a:tabLst>
                          <a:tab algn="l" pos="0"/>
                          <a:tab algn="l" pos="1517760"/>
                          <a:tab algn="l" pos="3035160"/>
                          <a:tab algn="l" pos="4552920"/>
                          <a:tab algn="l" pos="6070680"/>
                          <a:tab algn="l" pos="7588080"/>
                          <a:tab algn="l" pos="9105840"/>
                          <a:tab algn="l" pos="106236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9" name=""/>
          <p:cNvGraphicFramePr/>
          <p:nvPr/>
        </p:nvGraphicFramePr>
        <p:xfrm>
          <a:off x="8317080" y="5076720"/>
          <a:ext cx="6889680" cy="4354560"/>
        </p:xfrm>
        <a:graphic>
          <a:graphicData uri="http://schemas.openxmlformats.org/drawingml/2006/table">
            <a:tbl>
              <a:tblPr/>
              <a:tblGrid>
                <a:gridCol w="3292200"/>
                <a:gridCol w="963720"/>
                <a:gridCol w="901800"/>
                <a:gridCol w="901440"/>
                <a:gridCol w="830520"/>
              </a:tblGrid>
              <a:tr h="337320">
                <a:tc gridSpan="4">
                  <a:txBody>
                    <a:bodyPr lIns="90000" rIns="90000" tIns="46800" bIns="46800" anchor="b">
                      <a:noAutofit/>
                    </a:bodyPr>
                    <a:p>
                      <a:pPr marL="568440" indent="-568440" algn="ctr">
                        <a:tabLst>
                          <a:tab algn="l" pos="0"/>
                          <a:tab algn="l" pos="1517760"/>
                          <a:tab algn="l" pos="3035160"/>
                          <a:tab algn="l" pos="4552920"/>
                          <a:tab algn="l" pos="6070680"/>
                          <a:tab algn="l" pos="7588080"/>
                          <a:tab algn="l" pos="9105840"/>
                          <a:tab algn="l" pos="106236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onograma Atu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1517760"/>
                          <a:tab algn="l" pos="3035160"/>
                          <a:tab algn="l" pos="4552920"/>
                          <a:tab algn="l" pos="6070680"/>
                          <a:tab algn="l" pos="7588080"/>
                          <a:tab algn="l" pos="9105840"/>
                          <a:tab algn="l" pos="10623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568440" indent="-568440">
                        <a:tabLst>
                          <a:tab algn="l" pos="0"/>
                          <a:tab algn="l" pos="1517760"/>
                          <a:tab algn="l" pos="3035160"/>
                          <a:tab algn="l" pos="4552920"/>
                          <a:tab algn="l" pos="6070680"/>
                          <a:tab algn="l" pos="7588080"/>
                          <a:tab algn="l" pos="9105840"/>
                          <a:tab algn="l" pos="106236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inze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568440" indent="-568440" algn="r">
                        <a:tabLst>
                          <a:tab algn="l" pos="0"/>
                          <a:tab algn="l" pos="1517760"/>
                          <a:tab algn="l" pos="3035160"/>
                          <a:tab algn="l" pos="4552920"/>
                          <a:tab algn="l" pos="6070680"/>
                          <a:tab algn="l" pos="7588080"/>
                          <a:tab algn="l" pos="9105840"/>
                          <a:tab algn="l" pos="106236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i/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568440" indent="-568440" algn="r">
                        <a:tabLst>
                          <a:tab algn="l" pos="0"/>
                          <a:tab algn="l" pos="1517760"/>
                          <a:tab algn="l" pos="3035160"/>
                          <a:tab algn="l" pos="4552920"/>
                          <a:tab algn="l" pos="6070680"/>
                          <a:tab algn="l" pos="7588080"/>
                          <a:tab algn="l" pos="9105840"/>
                          <a:tab algn="l" pos="106236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n/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568440" indent="-568440" algn="r">
                        <a:tabLst>
                          <a:tab algn="l" pos="0"/>
                          <a:tab algn="l" pos="1517760"/>
                          <a:tab algn="l" pos="3035160"/>
                          <a:tab algn="l" pos="4552920"/>
                          <a:tab algn="l" pos="6070680"/>
                          <a:tab algn="l" pos="7588080"/>
                          <a:tab algn="l" pos="9105840"/>
                          <a:tab algn="l" pos="106236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n/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568440" indent="-568440" algn="r">
                        <a:tabLst>
                          <a:tab algn="l" pos="0"/>
                          <a:tab algn="l" pos="1517760"/>
                          <a:tab algn="l" pos="3035160"/>
                          <a:tab algn="l" pos="4552920"/>
                          <a:tab algn="l" pos="6070680"/>
                          <a:tab algn="l" pos="7588080"/>
                          <a:tab algn="l" pos="9105840"/>
                          <a:tab algn="l" pos="106236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l/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568440" indent="-568440">
                        <a:tabLst>
                          <a:tab algn="l" pos="0"/>
                          <a:tab algn="l" pos="1517760"/>
                          <a:tab algn="l" pos="3035160"/>
                          <a:tab algn="l" pos="4552920"/>
                          <a:tab algn="l" pos="6070680"/>
                          <a:tab algn="l" pos="7588080"/>
                          <a:tab algn="l" pos="9105840"/>
                          <a:tab algn="l" pos="106236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nograf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568440" indent="-568440">
                        <a:tabLst>
                          <a:tab algn="l" pos="0"/>
                          <a:tab algn="l" pos="1517760"/>
                          <a:tab algn="l" pos="3035160"/>
                          <a:tab algn="l" pos="4552920"/>
                          <a:tab algn="l" pos="6070680"/>
                          <a:tab algn="l" pos="7588080"/>
                          <a:tab algn="l" pos="9105840"/>
                          <a:tab algn="l" pos="106236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568440" indent="-568440">
                        <a:tabLst>
                          <a:tab algn="l" pos="0"/>
                          <a:tab algn="l" pos="1517760"/>
                          <a:tab algn="l" pos="3035160"/>
                          <a:tab algn="l" pos="4552920"/>
                          <a:tab algn="l" pos="6070680"/>
                          <a:tab algn="l" pos="7588080"/>
                          <a:tab algn="l" pos="9105840"/>
                          <a:tab algn="l" pos="106236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568440" indent="-568440">
                        <a:tabLst>
                          <a:tab algn="l" pos="0"/>
                          <a:tab algn="l" pos="1517760"/>
                          <a:tab algn="l" pos="3035160"/>
                          <a:tab algn="l" pos="4552920"/>
                          <a:tab algn="l" pos="6070680"/>
                          <a:tab algn="l" pos="7588080"/>
                          <a:tab algn="l" pos="9105840"/>
                          <a:tab algn="l" pos="106236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568440" indent="-568440">
                        <a:tabLst>
                          <a:tab algn="l" pos="0"/>
                          <a:tab algn="l" pos="1517760"/>
                          <a:tab algn="l" pos="3035160"/>
                          <a:tab algn="l" pos="4552920"/>
                          <a:tab algn="l" pos="6070680"/>
                          <a:tab algn="l" pos="7588080"/>
                          <a:tab algn="l" pos="9105840"/>
                          <a:tab algn="l" pos="106236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568440" indent="-568440">
                        <a:tabLst>
                          <a:tab algn="l" pos="0"/>
                          <a:tab algn="l" pos="1517760"/>
                          <a:tab algn="l" pos="3035160"/>
                          <a:tab algn="l" pos="4552920"/>
                          <a:tab algn="l" pos="6070680"/>
                          <a:tab algn="l" pos="7588080"/>
                          <a:tab algn="l" pos="9105840"/>
                          <a:tab algn="l" pos="106236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ftware ba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568440" indent="-568440">
                        <a:tabLst>
                          <a:tab algn="l" pos="0"/>
                          <a:tab algn="l" pos="1517760"/>
                          <a:tab algn="l" pos="3035160"/>
                          <a:tab algn="l" pos="4552920"/>
                          <a:tab algn="l" pos="6070680"/>
                          <a:tab algn="l" pos="7588080"/>
                          <a:tab algn="l" pos="9105840"/>
                          <a:tab algn="l" pos="106236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568440" indent="-568440">
                        <a:tabLst>
                          <a:tab algn="l" pos="0"/>
                          <a:tab algn="l" pos="1517760"/>
                          <a:tab algn="l" pos="3035160"/>
                          <a:tab algn="l" pos="4552920"/>
                          <a:tab algn="l" pos="6070680"/>
                          <a:tab algn="l" pos="7588080"/>
                          <a:tab algn="l" pos="9105840"/>
                          <a:tab algn="l" pos="106236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568440" indent="-568440">
                        <a:tabLst>
                          <a:tab algn="l" pos="0"/>
                          <a:tab algn="l" pos="1517760"/>
                          <a:tab algn="l" pos="3035160"/>
                          <a:tab algn="l" pos="4552920"/>
                          <a:tab algn="l" pos="6070680"/>
                          <a:tab algn="l" pos="7588080"/>
                          <a:tab algn="l" pos="9105840"/>
                          <a:tab algn="l" pos="106236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568440" indent="-568440">
                        <a:tabLst>
                          <a:tab algn="l" pos="0"/>
                          <a:tab algn="l" pos="1517760"/>
                          <a:tab algn="l" pos="3035160"/>
                          <a:tab algn="l" pos="4552920"/>
                          <a:tab algn="l" pos="6070680"/>
                          <a:tab algn="l" pos="7588080"/>
                          <a:tab algn="l" pos="9105840"/>
                          <a:tab algn="l" pos="106236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568440" indent="-568440">
                        <a:tabLst>
                          <a:tab algn="l" pos="0"/>
                          <a:tab algn="l" pos="1517760"/>
                          <a:tab algn="l" pos="3035160"/>
                          <a:tab algn="l" pos="4552920"/>
                          <a:tab algn="l" pos="6070680"/>
                          <a:tab algn="l" pos="7588080"/>
                          <a:tab algn="l" pos="9105840"/>
                          <a:tab algn="l" pos="106236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stes 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568440" indent="-568440">
                        <a:tabLst>
                          <a:tab algn="l" pos="0"/>
                          <a:tab algn="l" pos="1517760"/>
                          <a:tab algn="l" pos="3035160"/>
                          <a:tab algn="l" pos="4552920"/>
                          <a:tab algn="l" pos="6070680"/>
                          <a:tab algn="l" pos="7588080"/>
                          <a:tab algn="l" pos="9105840"/>
                          <a:tab algn="l" pos="106236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568440" indent="-568440">
                        <a:tabLst>
                          <a:tab algn="l" pos="0"/>
                          <a:tab algn="l" pos="1517760"/>
                          <a:tab algn="l" pos="3035160"/>
                          <a:tab algn="l" pos="4552920"/>
                          <a:tab algn="l" pos="6070680"/>
                          <a:tab algn="l" pos="7588080"/>
                          <a:tab algn="l" pos="9105840"/>
                          <a:tab algn="l" pos="106236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568440" indent="-568440">
                        <a:tabLst>
                          <a:tab algn="l" pos="0"/>
                          <a:tab algn="l" pos="1517760"/>
                          <a:tab algn="l" pos="3035160"/>
                          <a:tab algn="l" pos="4552920"/>
                          <a:tab algn="l" pos="6070680"/>
                          <a:tab algn="l" pos="7588080"/>
                          <a:tab algn="l" pos="9105840"/>
                          <a:tab algn="l" pos="106236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568440" indent="-568440">
                        <a:tabLst>
                          <a:tab algn="l" pos="0"/>
                          <a:tab algn="l" pos="1517760"/>
                          <a:tab algn="l" pos="3035160"/>
                          <a:tab algn="l" pos="4552920"/>
                          <a:tab algn="l" pos="6070680"/>
                          <a:tab algn="l" pos="7588080"/>
                          <a:tab algn="l" pos="9105840"/>
                          <a:tab algn="l" pos="106236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568440" indent="-568440">
                        <a:tabLst>
                          <a:tab algn="l" pos="0"/>
                          <a:tab algn="l" pos="1517760"/>
                          <a:tab algn="l" pos="3035160"/>
                          <a:tab algn="l" pos="4552920"/>
                          <a:tab algn="l" pos="6070680"/>
                          <a:tab algn="l" pos="7588080"/>
                          <a:tab algn="l" pos="9105840"/>
                          <a:tab algn="l" pos="106236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finição do méto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568440" indent="-568440">
                        <a:tabLst>
                          <a:tab algn="l" pos="0"/>
                          <a:tab algn="l" pos="1517760"/>
                          <a:tab algn="l" pos="3035160"/>
                          <a:tab algn="l" pos="4552920"/>
                          <a:tab algn="l" pos="6070680"/>
                          <a:tab algn="l" pos="7588080"/>
                          <a:tab algn="l" pos="9105840"/>
                          <a:tab algn="l" pos="106236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568440" indent="-568440">
                        <a:tabLst>
                          <a:tab algn="l" pos="0"/>
                          <a:tab algn="l" pos="1517760"/>
                          <a:tab algn="l" pos="3035160"/>
                          <a:tab algn="l" pos="4552920"/>
                          <a:tab algn="l" pos="6070680"/>
                          <a:tab algn="l" pos="7588080"/>
                          <a:tab algn="l" pos="9105840"/>
                          <a:tab algn="l" pos="106236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568440" indent="-568440">
                        <a:tabLst>
                          <a:tab algn="l" pos="0"/>
                          <a:tab algn="l" pos="1517760"/>
                          <a:tab algn="l" pos="3035160"/>
                          <a:tab algn="l" pos="4552920"/>
                          <a:tab algn="l" pos="6070680"/>
                          <a:tab algn="l" pos="7588080"/>
                          <a:tab algn="l" pos="9105840"/>
                          <a:tab algn="l" pos="106236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568440" indent="-568440">
                        <a:tabLst>
                          <a:tab algn="l" pos="0"/>
                          <a:tab algn="l" pos="1517760"/>
                          <a:tab algn="l" pos="3035160"/>
                          <a:tab algn="l" pos="4552920"/>
                          <a:tab algn="l" pos="6070680"/>
                          <a:tab algn="l" pos="7588080"/>
                          <a:tab algn="l" pos="9105840"/>
                          <a:tab algn="l" pos="106236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568440" indent="-568440">
                        <a:tabLst>
                          <a:tab algn="l" pos="0"/>
                          <a:tab algn="l" pos="1517760"/>
                          <a:tab algn="l" pos="3035160"/>
                          <a:tab algn="l" pos="4552920"/>
                          <a:tab algn="l" pos="6070680"/>
                          <a:tab algn="l" pos="7588080"/>
                          <a:tab algn="l" pos="9105840"/>
                          <a:tab algn="l" pos="106236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plementação Matlab Tes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568440" indent="-568440">
                        <a:tabLst>
                          <a:tab algn="l" pos="0"/>
                          <a:tab algn="l" pos="1517760"/>
                          <a:tab algn="l" pos="3035160"/>
                          <a:tab algn="l" pos="4552920"/>
                          <a:tab algn="l" pos="6070680"/>
                          <a:tab algn="l" pos="7588080"/>
                          <a:tab algn="l" pos="9105840"/>
                          <a:tab algn="l" pos="106236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568440" indent="-568440">
                        <a:tabLst>
                          <a:tab algn="l" pos="0"/>
                          <a:tab algn="l" pos="1517760"/>
                          <a:tab algn="l" pos="3035160"/>
                          <a:tab algn="l" pos="4552920"/>
                          <a:tab algn="l" pos="6070680"/>
                          <a:tab algn="l" pos="7588080"/>
                          <a:tab algn="l" pos="9105840"/>
                          <a:tab algn="l" pos="106236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568440" indent="-568440">
                        <a:tabLst>
                          <a:tab algn="l" pos="0"/>
                          <a:tab algn="l" pos="1517760"/>
                          <a:tab algn="l" pos="3035160"/>
                          <a:tab algn="l" pos="4552920"/>
                          <a:tab algn="l" pos="6070680"/>
                          <a:tab algn="l" pos="7588080"/>
                          <a:tab algn="l" pos="9105840"/>
                          <a:tab algn="l" pos="106236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568440" indent="-568440">
                        <a:tabLst>
                          <a:tab algn="l" pos="0"/>
                          <a:tab algn="l" pos="1517760"/>
                          <a:tab algn="l" pos="3035160"/>
                          <a:tab algn="l" pos="4552920"/>
                          <a:tab algn="l" pos="6070680"/>
                          <a:tab algn="l" pos="7588080"/>
                          <a:tab algn="l" pos="9105840"/>
                          <a:tab algn="l" pos="106236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568440" indent="-568440">
                        <a:tabLst>
                          <a:tab algn="l" pos="0"/>
                          <a:tab algn="l" pos="1517760"/>
                          <a:tab algn="l" pos="3035160"/>
                          <a:tab algn="l" pos="4552920"/>
                          <a:tab algn="l" pos="6070680"/>
                          <a:tab algn="l" pos="7588080"/>
                          <a:tab algn="l" pos="9105840"/>
                          <a:tab algn="l" pos="106236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finição Softwa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568440" indent="-568440">
                        <a:tabLst>
                          <a:tab algn="l" pos="0"/>
                          <a:tab algn="l" pos="1517760"/>
                          <a:tab algn="l" pos="3035160"/>
                          <a:tab algn="l" pos="4552920"/>
                          <a:tab algn="l" pos="6070680"/>
                          <a:tab algn="l" pos="7588080"/>
                          <a:tab algn="l" pos="9105840"/>
                          <a:tab algn="l" pos="106236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568440" indent="-568440">
                        <a:tabLst>
                          <a:tab algn="l" pos="0"/>
                          <a:tab algn="l" pos="1517760"/>
                          <a:tab algn="l" pos="3035160"/>
                          <a:tab algn="l" pos="4552920"/>
                          <a:tab algn="l" pos="6070680"/>
                          <a:tab algn="l" pos="7588080"/>
                          <a:tab algn="l" pos="9105840"/>
                          <a:tab algn="l" pos="106236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568440" indent="-568440">
                        <a:tabLst>
                          <a:tab algn="l" pos="0"/>
                          <a:tab algn="l" pos="1517760"/>
                          <a:tab algn="l" pos="3035160"/>
                          <a:tab algn="l" pos="4552920"/>
                          <a:tab algn="l" pos="6070680"/>
                          <a:tab algn="l" pos="7588080"/>
                          <a:tab algn="l" pos="9105840"/>
                          <a:tab algn="l" pos="106236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568440" indent="-568440">
                        <a:tabLst>
                          <a:tab algn="l" pos="0"/>
                          <a:tab algn="l" pos="1517760"/>
                          <a:tab algn="l" pos="3035160"/>
                          <a:tab algn="l" pos="4552920"/>
                          <a:tab algn="l" pos="6070680"/>
                          <a:tab algn="l" pos="7588080"/>
                          <a:tab algn="l" pos="9105840"/>
                          <a:tab algn="l" pos="106236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568440" indent="-568440">
                        <a:tabLst>
                          <a:tab algn="l" pos="0"/>
                          <a:tab algn="l" pos="1517760"/>
                          <a:tab algn="l" pos="3035160"/>
                          <a:tab algn="l" pos="4552920"/>
                          <a:tab algn="l" pos="6070680"/>
                          <a:tab algn="l" pos="7588080"/>
                          <a:tab algn="l" pos="9105840"/>
                          <a:tab algn="l" pos="106236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stes  Performa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568440" indent="-568440">
                        <a:tabLst>
                          <a:tab algn="l" pos="0"/>
                          <a:tab algn="l" pos="1517760"/>
                          <a:tab algn="l" pos="3035160"/>
                          <a:tab algn="l" pos="4552920"/>
                          <a:tab algn="l" pos="6070680"/>
                          <a:tab algn="l" pos="7588080"/>
                          <a:tab algn="l" pos="9105840"/>
                          <a:tab algn="l" pos="106236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568440" indent="-568440">
                        <a:tabLst>
                          <a:tab algn="l" pos="0"/>
                          <a:tab algn="l" pos="1517760"/>
                          <a:tab algn="l" pos="3035160"/>
                          <a:tab algn="l" pos="4552920"/>
                          <a:tab algn="l" pos="6070680"/>
                          <a:tab algn="l" pos="7588080"/>
                          <a:tab algn="l" pos="9105840"/>
                          <a:tab algn="l" pos="106236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568440" indent="-568440">
                        <a:tabLst>
                          <a:tab algn="l" pos="0"/>
                          <a:tab algn="l" pos="1517760"/>
                          <a:tab algn="l" pos="3035160"/>
                          <a:tab algn="l" pos="4552920"/>
                          <a:tab algn="l" pos="6070680"/>
                          <a:tab algn="l" pos="7588080"/>
                          <a:tab algn="l" pos="9105840"/>
                          <a:tab algn="l" pos="106236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568440" indent="-568440">
                        <a:tabLst>
                          <a:tab algn="l" pos="0"/>
                          <a:tab algn="l" pos="1517760"/>
                          <a:tab algn="l" pos="3035160"/>
                          <a:tab algn="l" pos="4552920"/>
                          <a:tab algn="l" pos="6070680"/>
                          <a:tab algn="l" pos="7588080"/>
                          <a:tab algn="l" pos="9105840"/>
                          <a:tab algn="l" pos="106236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568440" indent="-568440">
                        <a:tabLst>
                          <a:tab algn="l" pos="0"/>
                          <a:tab algn="l" pos="1517760"/>
                          <a:tab algn="l" pos="3035160"/>
                          <a:tab algn="l" pos="4552920"/>
                          <a:tab algn="l" pos="6070680"/>
                          <a:tab algn="l" pos="7588080"/>
                          <a:tab algn="l" pos="9105840"/>
                          <a:tab algn="l" pos="106236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ca Interfa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568440" indent="-568440">
                        <a:tabLst>
                          <a:tab algn="l" pos="0"/>
                          <a:tab algn="l" pos="1517760"/>
                          <a:tab algn="l" pos="3035160"/>
                          <a:tab algn="l" pos="4552920"/>
                          <a:tab algn="l" pos="6070680"/>
                          <a:tab algn="l" pos="7588080"/>
                          <a:tab algn="l" pos="9105840"/>
                          <a:tab algn="l" pos="106236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568440" indent="-568440">
                        <a:tabLst>
                          <a:tab algn="l" pos="0"/>
                          <a:tab algn="l" pos="1517760"/>
                          <a:tab algn="l" pos="3035160"/>
                          <a:tab algn="l" pos="4552920"/>
                          <a:tab algn="l" pos="6070680"/>
                          <a:tab algn="l" pos="7588080"/>
                          <a:tab algn="l" pos="9105840"/>
                          <a:tab algn="l" pos="106236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568440" indent="-568440">
                        <a:tabLst>
                          <a:tab algn="l" pos="0"/>
                          <a:tab algn="l" pos="1517760"/>
                          <a:tab algn="l" pos="3035160"/>
                          <a:tab algn="l" pos="4552920"/>
                          <a:tab algn="l" pos="6070680"/>
                          <a:tab algn="l" pos="7588080"/>
                          <a:tab algn="l" pos="9105840"/>
                          <a:tab algn="l" pos="106236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568440" indent="-568440">
                        <a:tabLst>
                          <a:tab algn="l" pos="0"/>
                          <a:tab algn="l" pos="1517760"/>
                          <a:tab algn="l" pos="3035160"/>
                          <a:tab algn="l" pos="4552920"/>
                          <a:tab algn="l" pos="6070680"/>
                          <a:tab algn="l" pos="7588080"/>
                          <a:tab algn="l" pos="9105840"/>
                          <a:tab algn="l" pos="106236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568440" indent="-568440">
                        <a:tabLst>
                          <a:tab algn="l" pos="0"/>
                          <a:tab algn="l" pos="1517760"/>
                          <a:tab algn="l" pos="3035160"/>
                          <a:tab algn="l" pos="4552920"/>
                          <a:tab algn="l" pos="6070680"/>
                          <a:tab algn="l" pos="7588080"/>
                          <a:tab algn="l" pos="9105840"/>
                          <a:tab algn="l" pos="106236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andos para Seri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568440" indent="-568440">
                        <a:tabLst>
                          <a:tab algn="l" pos="0"/>
                          <a:tab algn="l" pos="1517760"/>
                          <a:tab algn="l" pos="3035160"/>
                          <a:tab algn="l" pos="4552920"/>
                          <a:tab algn="l" pos="6070680"/>
                          <a:tab algn="l" pos="7588080"/>
                          <a:tab algn="l" pos="9105840"/>
                          <a:tab algn="l" pos="106236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568440" indent="-568440">
                        <a:tabLst>
                          <a:tab algn="l" pos="0"/>
                          <a:tab algn="l" pos="1517760"/>
                          <a:tab algn="l" pos="3035160"/>
                          <a:tab algn="l" pos="4552920"/>
                          <a:tab algn="l" pos="6070680"/>
                          <a:tab algn="l" pos="7588080"/>
                          <a:tab algn="l" pos="9105840"/>
                          <a:tab algn="l" pos="106236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568440" indent="-568440">
                        <a:tabLst>
                          <a:tab algn="l" pos="0"/>
                          <a:tab algn="l" pos="1517760"/>
                          <a:tab algn="l" pos="3035160"/>
                          <a:tab algn="l" pos="4552920"/>
                          <a:tab algn="l" pos="6070680"/>
                          <a:tab algn="l" pos="7588080"/>
                          <a:tab algn="l" pos="9105840"/>
                          <a:tab algn="l" pos="106236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568440" indent="-568440">
                        <a:tabLst>
                          <a:tab algn="l" pos="0"/>
                          <a:tab algn="l" pos="1517760"/>
                          <a:tab algn="l" pos="3035160"/>
                          <a:tab algn="l" pos="4552920"/>
                          <a:tab algn="l" pos="6070680"/>
                          <a:tab algn="l" pos="7588080"/>
                          <a:tab algn="l" pos="9105840"/>
                          <a:tab algn="l" pos="106236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568440" indent="-568440">
                        <a:tabLst>
                          <a:tab algn="l" pos="0"/>
                          <a:tab algn="l" pos="1517760"/>
                          <a:tab algn="l" pos="3035160"/>
                          <a:tab algn="l" pos="4552920"/>
                          <a:tab algn="l" pos="6070680"/>
                          <a:tab algn="l" pos="7588080"/>
                          <a:tab algn="l" pos="9105840"/>
                          <a:tab algn="l" pos="106236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paração apresentaçã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568440" indent="-568440">
                        <a:tabLst>
                          <a:tab algn="l" pos="0"/>
                          <a:tab algn="l" pos="1517760"/>
                          <a:tab algn="l" pos="3035160"/>
                          <a:tab algn="l" pos="4552920"/>
                          <a:tab algn="l" pos="6070680"/>
                          <a:tab algn="l" pos="7588080"/>
                          <a:tab algn="l" pos="9105840"/>
                          <a:tab algn="l" pos="106236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568440" indent="-568440">
                        <a:tabLst>
                          <a:tab algn="l" pos="0"/>
                          <a:tab algn="l" pos="1517760"/>
                          <a:tab algn="l" pos="3035160"/>
                          <a:tab algn="l" pos="4552920"/>
                          <a:tab algn="l" pos="6070680"/>
                          <a:tab algn="l" pos="7588080"/>
                          <a:tab algn="l" pos="9105840"/>
                          <a:tab algn="l" pos="106236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568440" indent="-568440">
                        <a:tabLst>
                          <a:tab algn="l" pos="0"/>
                          <a:tab algn="l" pos="1517760"/>
                          <a:tab algn="l" pos="3035160"/>
                          <a:tab algn="l" pos="4552920"/>
                          <a:tab algn="l" pos="6070680"/>
                          <a:tab algn="l" pos="7588080"/>
                          <a:tab algn="l" pos="9105840"/>
                          <a:tab algn="l" pos="106236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568440" indent="-568440">
                        <a:tabLst>
                          <a:tab algn="l" pos="0"/>
                          <a:tab algn="l" pos="1517760"/>
                          <a:tab algn="l" pos="3035160"/>
                          <a:tab algn="l" pos="4552920"/>
                          <a:tab algn="l" pos="6070680"/>
                          <a:tab algn="l" pos="7588080"/>
                          <a:tab algn="l" pos="9105840"/>
                          <a:tab algn="l" pos="106236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568440" indent="-568440">
                        <a:tabLst>
                          <a:tab algn="l" pos="0"/>
                          <a:tab algn="l" pos="1517760"/>
                          <a:tab algn="l" pos="3035160"/>
                          <a:tab algn="l" pos="4552920"/>
                          <a:tab algn="l" pos="6070680"/>
                          <a:tab algn="l" pos="7588080"/>
                          <a:tab algn="l" pos="9105840"/>
                          <a:tab algn="l" pos="106236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plem. no Software Escolhi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568440" indent="-568440">
                        <a:tabLst>
                          <a:tab algn="l" pos="0"/>
                          <a:tab algn="l" pos="1517760"/>
                          <a:tab algn="l" pos="3035160"/>
                          <a:tab algn="l" pos="4552920"/>
                          <a:tab algn="l" pos="6070680"/>
                          <a:tab algn="l" pos="7588080"/>
                          <a:tab algn="l" pos="9105840"/>
                          <a:tab algn="l" pos="106236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568440" indent="-568440">
                        <a:tabLst>
                          <a:tab algn="l" pos="0"/>
                          <a:tab algn="l" pos="1517760"/>
                          <a:tab algn="l" pos="3035160"/>
                          <a:tab algn="l" pos="4552920"/>
                          <a:tab algn="l" pos="6070680"/>
                          <a:tab algn="l" pos="7588080"/>
                          <a:tab algn="l" pos="9105840"/>
                          <a:tab algn="l" pos="106236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568440" indent="-568440">
                        <a:tabLst>
                          <a:tab algn="l" pos="0"/>
                          <a:tab algn="l" pos="1517760"/>
                          <a:tab algn="l" pos="3035160"/>
                          <a:tab algn="l" pos="4552920"/>
                          <a:tab algn="l" pos="6070680"/>
                          <a:tab algn="l" pos="7588080"/>
                          <a:tab algn="l" pos="9105840"/>
                          <a:tab algn="l" pos="106236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568440" indent="-568440">
                        <a:tabLst>
                          <a:tab algn="l" pos="0"/>
                          <a:tab algn="l" pos="1517760"/>
                          <a:tab algn="l" pos="3035160"/>
                          <a:tab algn="l" pos="4552920"/>
                          <a:tab algn="l" pos="6070680"/>
                          <a:tab algn="l" pos="7588080"/>
                          <a:tab algn="l" pos="9105840"/>
                          <a:tab algn="l" pos="106236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0" name=""/>
          <p:cNvSpPr/>
          <p:nvPr/>
        </p:nvSpPr>
        <p:spPr>
          <a:xfrm>
            <a:off x="2271960" y="9109080"/>
            <a:ext cx="304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* Se for implementado em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eaeae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774720" y="388440"/>
            <a:ext cx="13932000" cy="1621080"/>
          </a:xfrm>
          <a:prstGeom prst="rect">
            <a:avLst/>
          </a:prstGeom>
          <a:noFill/>
          <a:ln w="0">
            <a:noFill/>
          </a:ln>
        </p:spPr>
        <p:txBody>
          <a:bodyPr lIns="151560" rIns="151560" tIns="75960" bIns="75960" anchor="ctr">
            <a:noAutofit/>
          </a:bodyPr>
          <a:p>
            <a:pPr indent="0" algn="ctr">
              <a:buNone/>
              <a:tabLst>
                <a:tab algn="l" pos="0"/>
                <a:tab algn="l" pos="1517760"/>
                <a:tab algn="l" pos="3035160"/>
                <a:tab algn="l" pos="4552920"/>
                <a:tab algn="l" pos="6070680"/>
                <a:tab algn="l" pos="7588080"/>
                <a:tab algn="l" pos="9105840"/>
                <a:tab algn="l" pos="10623600"/>
              </a:tabLst>
            </a:pPr>
            <a:r>
              <a:rPr b="0" lang="pt-BR" sz="4800" spc="-1" strike="noStrike">
                <a:solidFill>
                  <a:srgbClr val="cc3300"/>
                </a:solidFill>
                <a:latin typeface="Arial"/>
              </a:rPr>
              <a:t>Cronograma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828720" y="2052360"/>
            <a:ext cx="14311440" cy="6414840"/>
          </a:xfrm>
          <a:prstGeom prst="rect">
            <a:avLst/>
          </a:prstGeom>
          <a:noFill/>
          <a:ln w="0">
            <a:noFill/>
          </a:ln>
        </p:spPr>
        <p:txBody>
          <a:bodyPr lIns="151560" rIns="151560" tIns="75960" bIns="75960" anchor="t">
            <a:normAutofit/>
          </a:bodyPr>
          <a:p>
            <a:pPr marL="568440" indent="-56844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1517760"/>
                <a:tab algn="l" pos="3035160"/>
                <a:tab algn="l" pos="4552920"/>
                <a:tab algn="l" pos="6070680"/>
                <a:tab algn="l" pos="7588080"/>
                <a:tab algn="l" pos="9105840"/>
                <a:tab algn="l" pos="10623600"/>
              </a:tabLst>
            </a:pPr>
            <a:r>
              <a:rPr b="0" lang="pt-BR" sz="5400" spc="-1" strike="noStrike">
                <a:solidFill>
                  <a:srgbClr val="000000"/>
                </a:solidFill>
                <a:latin typeface="Arial"/>
              </a:rPr>
              <a:t>Atrasado:monografi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568440" indent="0">
              <a:spcBef>
                <a:spcPts val="1349"/>
              </a:spcBef>
              <a:buNone/>
              <a:tabLst>
                <a:tab algn="l" pos="1517760"/>
                <a:tab algn="l" pos="3035160"/>
                <a:tab algn="l" pos="4552920"/>
                <a:tab algn="l" pos="6070680"/>
                <a:tab algn="l" pos="7588080"/>
                <a:tab algn="l" pos="9105840"/>
                <a:tab algn="l" pos="106236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568440" indent="-56844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1517760"/>
                <a:tab algn="l" pos="3035160"/>
                <a:tab algn="l" pos="4552920"/>
                <a:tab algn="l" pos="6070680"/>
                <a:tab algn="l" pos="7588080"/>
                <a:tab algn="l" pos="9105840"/>
                <a:tab algn="l" pos="10623600"/>
              </a:tabLst>
            </a:pPr>
            <a:r>
              <a:rPr b="0" lang="pt-BR" sz="5400" spc="-1" strike="noStrike">
                <a:solidFill>
                  <a:srgbClr val="000000"/>
                </a:solidFill>
                <a:latin typeface="Arial"/>
              </a:rPr>
              <a:t>Adiantado: Implementação C, Placa de interface, testes de performace e comandos para serial (se for mantido em C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eaeae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74720" y="388440"/>
            <a:ext cx="13932000" cy="1621080"/>
          </a:xfrm>
          <a:prstGeom prst="rect">
            <a:avLst/>
          </a:prstGeom>
          <a:noFill/>
          <a:ln w="0">
            <a:noFill/>
          </a:ln>
        </p:spPr>
        <p:txBody>
          <a:bodyPr lIns="151560" rIns="151560" tIns="75960" bIns="75960" anchor="ctr">
            <a:noAutofit/>
          </a:bodyPr>
          <a:p>
            <a:pPr indent="0" algn="ctr">
              <a:buNone/>
              <a:tabLst>
                <a:tab algn="l" pos="0"/>
                <a:tab algn="l" pos="1517760"/>
                <a:tab algn="l" pos="3035160"/>
                <a:tab algn="l" pos="4552920"/>
                <a:tab algn="l" pos="6070680"/>
                <a:tab algn="l" pos="7588080"/>
                <a:tab algn="l" pos="9105840"/>
                <a:tab algn="l" pos="10623600"/>
              </a:tabLst>
            </a:pPr>
            <a:r>
              <a:rPr b="0" lang="en-US" sz="7200" spc="-1" strike="noStrike">
                <a:solidFill>
                  <a:srgbClr val="cc3300"/>
                </a:solidFill>
                <a:latin typeface="Arial"/>
              </a:rPr>
              <a:t>Motivaç</a:t>
            </a:r>
            <a:r>
              <a:rPr b="0" lang="pt-BR" sz="7200" spc="-1" strike="noStrike">
                <a:solidFill>
                  <a:srgbClr val="cc3300"/>
                </a:solidFill>
                <a:latin typeface="Arial"/>
              </a:rPr>
              <a:t>ã</a:t>
            </a:r>
            <a:r>
              <a:rPr b="0" lang="en-US" sz="7200" spc="-1" strike="noStrike">
                <a:solidFill>
                  <a:srgbClr val="cc3300"/>
                </a:solidFill>
                <a:latin typeface="Arial"/>
              </a:rPr>
              <a:t>o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26560" y="2844360"/>
            <a:ext cx="13933800" cy="3816360"/>
          </a:xfrm>
          <a:prstGeom prst="rect">
            <a:avLst/>
          </a:prstGeom>
          <a:noFill/>
          <a:ln w="0">
            <a:noFill/>
          </a:ln>
        </p:spPr>
        <p:txBody>
          <a:bodyPr lIns="151560" rIns="151560" tIns="75960" bIns="75960" anchor="t">
            <a:normAutofit/>
          </a:bodyPr>
          <a:p>
            <a:pPr marL="568440" indent="-568440" algn="ctr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1517760"/>
                <a:tab algn="l" pos="3035160"/>
                <a:tab algn="l" pos="4552920"/>
                <a:tab algn="l" pos="6070680"/>
                <a:tab algn="l" pos="7588080"/>
                <a:tab algn="l" pos="9105840"/>
                <a:tab algn="l" pos="10623600"/>
              </a:tabLst>
            </a:pPr>
            <a:r>
              <a:rPr b="0" lang="pt-BR" sz="5400" spc="-1" strike="noStrike">
                <a:solidFill>
                  <a:srgbClr val="000000"/>
                </a:solidFill>
                <a:latin typeface="Arial"/>
              </a:rPr>
              <a:t>Um crescente numero de pesquisas estão sendo desenvolvidos nesta área, devido a gama de produtos que podem conter este tipo de tecnologi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eaeae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74720" y="388440"/>
            <a:ext cx="13932000" cy="1621080"/>
          </a:xfrm>
          <a:prstGeom prst="rect">
            <a:avLst/>
          </a:prstGeom>
          <a:noFill/>
          <a:ln w="0">
            <a:noFill/>
          </a:ln>
        </p:spPr>
        <p:txBody>
          <a:bodyPr lIns="151560" rIns="151560" tIns="75960" bIns="75960" anchor="ctr">
            <a:noAutofit/>
          </a:bodyPr>
          <a:p>
            <a:pPr indent="0" algn="ctr">
              <a:buNone/>
              <a:tabLst>
                <a:tab algn="l" pos="0"/>
                <a:tab algn="l" pos="1517760"/>
                <a:tab algn="l" pos="3035160"/>
                <a:tab algn="l" pos="4552920"/>
                <a:tab algn="l" pos="6070680"/>
                <a:tab algn="l" pos="7588080"/>
                <a:tab algn="l" pos="9105840"/>
                <a:tab algn="l" pos="10623600"/>
              </a:tabLst>
            </a:pPr>
            <a:r>
              <a:rPr b="0" lang="pt-BR" sz="7200" spc="-1" strike="noStrike">
                <a:solidFill>
                  <a:srgbClr val="cc3300"/>
                </a:solidFill>
                <a:latin typeface="Arial"/>
              </a:rPr>
              <a:t>Definições iniciai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95280" y="2266560"/>
            <a:ext cx="14690880" cy="1585800"/>
          </a:xfrm>
          <a:prstGeom prst="rect">
            <a:avLst/>
          </a:prstGeom>
          <a:noFill/>
          <a:ln w="0">
            <a:noFill/>
          </a:ln>
        </p:spPr>
        <p:txBody>
          <a:bodyPr lIns="151560" rIns="151560" tIns="75960" bIns="75960" anchor="t">
            <a:normAutofit/>
          </a:bodyPr>
          <a:p>
            <a:pPr marL="568440" indent="-56844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1517760"/>
                <a:tab algn="l" pos="3035160"/>
                <a:tab algn="l" pos="4552920"/>
                <a:tab algn="l" pos="6070680"/>
                <a:tab algn="l" pos="7588080"/>
                <a:tab algn="l" pos="9105840"/>
                <a:tab algn="l" pos="10623600"/>
              </a:tabLst>
            </a:pPr>
            <a:r>
              <a:rPr b="0" lang="pt-BR" sz="4200" spc="-1" strike="noStrike">
                <a:solidFill>
                  <a:srgbClr val="000000"/>
                </a:solidFill>
                <a:latin typeface="Arial"/>
              </a:rPr>
              <a:t>O programa será testado no Matlab</a:t>
            </a: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®, </a:t>
            </a:r>
            <a:r>
              <a:rPr b="0" lang="pt-BR" sz="4200" spc="-1" strike="noStrike">
                <a:solidFill>
                  <a:srgbClr val="000000"/>
                </a:solidFill>
                <a:latin typeface="Arial"/>
              </a:rPr>
              <a:t>devido a facilidade para gerar gráficos e pelas funções prontas;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568440" indent="0">
              <a:spcBef>
                <a:spcPts val="1049"/>
              </a:spcBef>
              <a:buNone/>
              <a:tabLst>
                <a:tab algn="l" pos="1517760"/>
                <a:tab algn="l" pos="3035160"/>
                <a:tab algn="l" pos="4552920"/>
                <a:tab algn="l" pos="6070680"/>
                <a:tab algn="l" pos="7588080"/>
                <a:tab algn="l" pos="9105840"/>
                <a:tab algn="l" pos="106236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95280" y="3852720"/>
            <a:ext cx="14690880" cy="15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51560" rIns="151560" tIns="75960" bIns="75960" anchor="t">
            <a:normAutofit/>
          </a:bodyPr>
          <a:p>
            <a:pPr marL="568440" indent="-568440">
              <a:lnSpc>
                <a:spcPct val="90000"/>
              </a:lnSpc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1517760"/>
                <a:tab algn="l" pos="3035160"/>
                <a:tab algn="l" pos="4552920"/>
                <a:tab algn="l" pos="6070680"/>
                <a:tab algn="l" pos="7588080"/>
                <a:tab algn="l" pos="9105840"/>
                <a:tab algn="l" pos="10623600"/>
              </a:tabLst>
            </a:pPr>
            <a:r>
              <a:rPr b="0" lang="pt-BR" sz="3800" spc="-1" strike="noStrike">
                <a:solidFill>
                  <a:srgbClr val="000000"/>
                </a:solidFill>
                <a:latin typeface="Arial"/>
              </a:rPr>
              <a:t>O programa irá controlar um carro de controle remoto através da porta serial (Implementação);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568440" indent="-568440">
              <a:lnSpc>
                <a:spcPct val="90000"/>
              </a:lnSpc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1517760"/>
                <a:tab algn="l" pos="3035160"/>
                <a:tab algn="l" pos="4552920"/>
                <a:tab algn="l" pos="6070680"/>
                <a:tab algn="l" pos="7588080"/>
                <a:tab algn="l" pos="9105840"/>
                <a:tab algn="l" pos="106236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568440" indent="-568440">
              <a:lnSpc>
                <a:spcPct val="90000"/>
              </a:lnSpc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1517760"/>
                <a:tab algn="l" pos="3035160"/>
                <a:tab algn="l" pos="4552920"/>
                <a:tab algn="l" pos="6070680"/>
                <a:tab algn="l" pos="7588080"/>
                <a:tab algn="l" pos="9105840"/>
                <a:tab algn="l" pos="106236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5292720"/>
            <a:ext cx="14690880" cy="10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51560" rIns="151560" tIns="75960" bIns="75960" anchor="t">
            <a:normAutofit/>
          </a:bodyPr>
          <a:p>
            <a:pPr marL="568440" indent="-568440">
              <a:lnSpc>
                <a:spcPct val="90000"/>
              </a:lnSpc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1517760"/>
                <a:tab algn="l" pos="3035160"/>
                <a:tab algn="l" pos="4552920"/>
                <a:tab algn="l" pos="6070680"/>
                <a:tab algn="l" pos="7588080"/>
                <a:tab algn="l" pos="9105840"/>
                <a:tab algn="l" pos="10623600"/>
              </a:tabLst>
            </a:pPr>
            <a:r>
              <a:rPr b="0" lang="pt-BR" sz="3800" spc="-1" strike="noStrike">
                <a:solidFill>
                  <a:srgbClr val="000000"/>
                </a:solidFill>
                <a:latin typeface="Arial"/>
              </a:rPr>
              <a:t>A interpretação da serial será pelo KIT ULB51 (89C52);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568440" indent="-568440">
              <a:lnSpc>
                <a:spcPct val="90000"/>
              </a:lnSpc>
              <a:spcBef>
                <a:spcPts val="950"/>
              </a:spcBef>
              <a:tabLst>
                <a:tab algn="l" pos="0"/>
                <a:tab algn="l" pos="1517760"/>
                <a:tab algn="l" pos="3035160"/>
                <a:tab algn="l" pos="4552920"/>
                <a:tab algn="l" pos="6070680"/>
                <a:tab algn="l" pos="7588080"/>
                <a:tab algn="l" pos="9105840"/>
                <a:tab algn="l" pos="106236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95280" y="6373800"/>
            <a:ext cx="14690880" cy="15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51560" rIns="151560" tIns="75960" bIns="75960" anchor="t">
            <a:normAutofit fontScale="93000"/>
          </a:bodyPr>
          <a:p>
            <a:pPr marL="528480" indent="-528480">
              <a:lnSpc>
                <a:spcPct val="90000"/>
              </a:lnSpc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1517760"/>
                <a:tab algn="l" pos="3035160"/>
                <a:tab algn="l" pos="4552920"/>
                <a:tab algn="l" pos="6070680"/>
                <a:tab algn="l" pos="7588080"/>
                <a:tab algn="l" pos="9105840"/>
                <a:tab algn="l" pos="10623600"/>
              </a:tabLst>
            </a:pPr>
            <a:r>
              <a:rPr b="0" lang="pt-BR" sz="3800" spc="-1" strike="noStrike">
                <a:solidFill>
                  <a:srgbClr val="000000"/>
                </a:solidFill>
                <a:latin typeface="Arial"/>
              </a:rPr>
              <a:t>O programa terá gravado 6 comandos diferentes para que seja feito o reconhecimento: esquerda, direita, linha, frente, para, volta;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528480" indent="-528480">
              <a:lnSpc>
                <a:spcPct val="90000"/>
              </a:lnSpc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1517760"/>
                <a:tab algn="l" pos="3035160"/>
                <a:tab algn="l" pos="4552920"/>
                <a:tab algn="l" pos="6070680"/>
                <a:tab algn="l" pos="7588080"/>
                <a:tab algn="l" pos="9105840"/>
                <a:tab algn="l" pos="106236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528480" indent="-528480">
              <a:lnSpc>
                <a:spcPct val="90000"/>
              </a:lnSpc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1517760"/>
                <a:tab algn="l" pos="3035160"/>
                <a:tab algn="l" pos="4552920"/>
                <a:tab algn="l" pos="6070680"/>
                <a:tab algn="l" pos="7588080"/>
                <a:tab algn="l" pos="9105840"/>
                <a:tab algn="l" pos="106236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eaeae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708000" y="684000"/>
            <a:ext cx="8496360" cy="1763640"/>
          </a:xfrm>
          <a:prstGeom prst="rect">
            <a:avLst/>
          </a:prstGeom>
          <a:noFill/>
          <a:ln w="0">
            <a:noFill/>
          </a:ln>
        </p:spPr>
        <p:txBody>
          <a:bodyPr lIns="151560" rIns="151560" tIns="75960" bIns="75960" anchor="ctr">
            <a:noAutofit/>
          </a:bodyPr>
          <a:p>
            <a:pPr indent="0" algn="ctr">
              <a:buNone/>
              <a:tabLst>
                <a:tab algn="l" pos="0"/>
                <a:tab algn="l" pos="1517760"/>
                <a:tab algn="l" pos="3035160"/>
                <a:tab algn="l" pos="4552920"/>
                <a:tab algn="l" pos="6070680"/>
                <a:tab algn="l" pos="7588080"/>
                <a:tab algn="l" pos="9105840"/>
                <a:tab algn="l" pos="10623600"/>
              </a:tabLst>
            </a:pPr>
            <a:r>
              <a:rPr b="0" lang="pt-BR" sz="6600" spc="-1" strike="noStrike">
                <a:solidFill>
                  <a:srgbClr val="cc3300"/>
                </a:solidFill>
                <a:latin typeface="Arial"/>
              </a:rPr>
              <a:t>Componentes Básicos Utilizado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55640" y="2989440"/>
            <a:ext cx="14003280" cy="938160"/>
          </a:xfrm>
          <a:prstGeom prst="rect">
            <a:avLst/>
          </a:prstGeom>
          <a:noFill/>
          <a:ln w="0">
            <a:noFill/>
          </a:ln>
        </p:spPr>
        <p:txBody>
          <a:bodyPr lIns="151560" rIns="151560" tIns="75960" bIns="75960" anchor="t">
            <a:normAutofit/>
          </a:bodyPr>
          <a:p>
            <a:pPr marL="568440" indent="-568440" algn="ctr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1517760"/>
                <a:tab algn="l" pos="3035160"/>
                <a:tab algn="l" pos="4552920"/>
                <a:tab algn="l" pos="6070680"/>
                <a:tab algn="l" pos="7588080"/>
                <a:tab algn="l" pos="9105840"/>
                <a:tab algn="l" pos="10623600"/>
              </a:tabLst>
            </a:pPr>
            <a:r>
              <a:rPr b="0" lang="pt-BR" sz="5400" spc="-1" strike="noStrike">
                <a:solidFill>
                  <a:srgbClr val="000000"/>
                </a:solidFill>
                <a:latin typeface="Arial"/>
              </a:rPr>
              <a:t>Kit de desenvolvimento do 89C5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97440"/>
            <a:ext cx="1400328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51560" rIns="151560" tIns="75960" bIns="75960" anchor="t">
            <a:normAutofit/>
          </a:bodyPr>
          <a:p>
            <a:pPr marL="568440" indent="-568440" algn="ctr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1517760"/>
                <a:tab algn="l" pos="3035160"/>
                <a:tab algn="l" pos="4552920"/>
                <a:tab algn="l" pos="6070680"/>
                <a:tab algn="l" pos="7588080"/>
                <a:tab algn="l" pos="9105840"/>
                <a:tab algn="l" pos="10623600"/>
              </a:tabLst>
            </a:pPr>
            <a:r>
              <a:rPr b="0" lang="pt-BR" sz="5400" spc="-1" strike="noStrike">
                <a:solidFill>
                  <a:srgbClr val="000000"/>
                </a:solidFill>
                <a:latin typeface="Arial"/>
              </a:rPr>
              <a:t>Notebook HP modelo DV5178U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09480" y="5076720"/>
            <a:ext cx="1400652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51560" rIns="151560" tIns="75960" bIns="75960" anchor="t">
            <a:normAutofit/>
          </a:bodyPr>
          <a:p>
            <a:pPr marL="568440" indent="-568440" algn="ctr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1517760"/>
                <a:tab algn="l" pos="3035160"/>
                <a:tab algn="l" pos="4552920"/>
                <a:tab algn="l" pos="6070680"/>
                <a:tab algn="l" pos="7588080"/>
                <a:tab algn="l" pos="9105840"/>
                <a:tab algn="l" pos="10623600"/>
              </a:tabLst>
            </a:pPr>
            <a:r>
              <a:rPr b="0" lang="pt-BR" sz="5400" spc="-1" strike="noStrike">
                <a:solidFill>
                  <a:srgbClr val="000000"/>
                </a:solidFill>
                <a:latin typeface="Arial"/>
              </a:rPr>
              <a:t>Desktop com processador P IV 2.8 H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6013440"/>
            <a:ext cx="1400184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51560" rIns="151560" tIns="75960" bIns="75960" anchor="t">
            <a:normAutofit/>
          </a:bodyPr>
          <a:p>
            <a:pPr marL="568440" indent="-568440" algn="ctr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1517760"/>
                <a:tab algn="l" pos="3035160"/>
                <a:tab algn="l" pos="4552920"/>
                <a:tab algn="l" pos="6070680"/>
                <a:tab algn="l" pos="7588080"/>
                <a:tab algn="l" pos="9105840"/>
                <a:tab algn="l" pos="10623600"/>
              </a:tabLst>
            </a:pPr>
            <a:r>
              <a:rPr b="0" lang="pt-BR" sz="5400" spc="-1" strike="noStrike">
                <a:solidFill>
                  <a:srgbClr val="000000"/>
                </a:solidFill>
                <a:latin typeface="Arial"/>
              </a:rPr>
              <a:t>Carro de controle remot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6950160"/>
            <a:ext cx="1400328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51560" rIns="151560" tIns="75960" bIns="75960" anchor="t">
            <a:normAutofit/>
          </a:bodyPr>
          <a:p>
            <a:pPr marL="568440" indent="-568440" algn="ctr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1517760"/>
                <a:tab algn="l" pos="3035160"/>
                <a:tab algn="l" pos="4552920"/>
                <a:tab algn="l" pos="6070680"/>
                <a:tab algn="l" pos="7588080"/>
                <a:tab algn="l" pos="9105840"/>
                <a:tab algn="l" pos="10623600"/>
              </a:tabLst>
            </a:pPr>
            <a:r>
              <a:rPr b="0" lang="pt-BR" sz="5400" spc="-1" strike="noStrike">
                <a:solidFill>
                  <a:srgbClr val="000000"/>
                </a:solidFill>
                <a:latin typeface="Arial"/>
              </a:rPr>
              <a:t>Microfone Son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39640" y="7885080"/>
            <a:ext cx="140032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51560" rIns="151560" tIns="75960" bIns="75960" anchor="t">
            <a:normAutofit/>
          </a:bodyPr>
          <a:p>
            <a:pPr marL="568440" indent="-568440" algn="ctr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1517760"/>
                <a:tab algn="l" pos="3035160"/>
                <a:tab algn="l" pos="4552920"/>
                <a:tab algn="l" pos="6070680"/>
                <a:tab algn="l" pos="7588080"/>
                <a:tab algn="l" pos="9105840"/>
                <a:tab algn="l" pos="10623600"/>
              </a:tabLst>
            </a:pPr>
            <a:r>
              <a:rPr b="0" lang="pt-BR" sz="5400" spc="-1" strike="noStrike">
                <a:solidFill>
                  <a:srgbClr val="000000"/>
                </a:solidFill>
                <a:latin typeface="Arial"/>
              </a:rPr>
              <a:t>Placa de interface (reles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eaeae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708360" y="684000"/>
            <a:ext cx="7128000" cy="1763640"/>
          </a:xfrm>
          <a:prstGeom prst="rect">
            <a:avLst/>
          </a:prstGeom>
          <a:noFill/>
          <a:ln w="0">
            <a:noFill/>
          </a:ln>
        </p:spPr>
        <p:txBody>
          <a:bodyPr lIns="151560" rIns="151560" tIns="75960" bIns="75960" anchor="ctr">
            <a:noAutofit/>
          </a:bodyPr>
          <a:p>
            <a:pPr indent="0" algn="ctr">
              <a:buNone/>
              <a:tabLst>
                <a:tab algn="l" pos="0"/>
                <a:tab algn="l" pos="1517760"/>
                <a:tab algn="l" pos="3035160"/>
                <a:tab algn="l" pos="4552920"/>
                <a:tab algn="l" pos="6070680"/>
                <a:tab algn="l" pos="7588080"/>
                <a:tab algn="l" pos="9105840"/>
                <a:tab algn="l" pos="10623600"/>
              </a:tabLst>
            </a:pPr>
            <a:r>
              <a:rPr b="0" lang="pt-BR" sz="7200" spc="-1" strike="noStrike">
                <a:solidFill>
                  <a:srgbClr val="cc3300"/>
                </a:solidFill>
                <a:latin typeface="Arial"/>
              </a:rPr>
              <a:t>Diagrama geral do projeto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 flipH="1">
            <a:off x="3274560" y="4573440"/>
            <a:ext cx="792360" cy="92556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427640" y="5076720"/>
            <a:ext cx="877680" cy="7858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9972720" y="5149800"/>
            <a:ext cx="934920" cy="8715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4"/>
          <a:stretch/>
        </p:blipFill>
        <p:spPr>
          <a:xfrm>
            <a:off x="8101080" y="5365800"/>
            <a:ext cx="1295280" cy="6033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5"/>
          <a:stretch/>
        </p:blipFill>
        <p:spPr>
          <a:xfrm>
            <a:off x="8388360" y="5437080"/>
            <a:ext cx="504720" cy="3445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6"/>
          <a:stretch/>
        </p:blipFill>
        <p:spPr>
          <a:xfrm flipH="1">
            <a:off x="11267640" y="5510160"/>
            <a:ext cx="1225800" cy="48744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7"/>
          <a:stretch/>
        </p:blipFill>
        <p:spPr>
          <a:xfrm>
            <a:off x="5867280" y="4933800"/>
            <a:ext cx="1586160" cy="132588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5075280" y="5557680"/>
            <a:ext cx="1368360" cy="552600"/>
          </a:xfrm>
          <a:custGeom>
            <a:avLst/>
            <a:gdLst/>
            <a:ahLst/>
            <a:rect l="l" t="t" r="r" b="b"/>
            <a:pathLst>
              <a:path w="862" h="348">
                <a:moveTo>
                  <a:pt x="0" y="151"/>
                </a:moveTo>
                <a:cubicBezTo>
                  <a:pt x="42" y="234"/>
                  <a:pt x="84" y="318"/>
                  <a:pt x="137" y="333"/>
                </a:cubicBezTo>
                <a:cubicBezTo>
                  <a:pt x="190" y="348"/>
                  <a:pt x="280" y="288"/>
                  <a:pt x="318" y="242"/>
                </a:cubicBezTo>
                <a:cubicBezTo>
                  <a:pt x="356" y="196"/>
                  <a:pt x="303" y="98"/>
                  <a:pt x="363" y="60"/>
                </a:cubicBezTo>
                <a:cubicBezTo>
                  <a:pt x="423" y="22"/>
                  <a:pt x="613" y="0"/>
                  <a:pt x="681" y="15"/>
                </a:cubicBezTo>
                <a:cubicBezTo>
                  <a:pt x="749" y="30"/>
                  <a:pt x="742" y="128"/>
                  <a:pt x="772" y="151"/>
                </a:cubicBezTo>
                <a:cubicBezTo>
                  <a:pt x="802" y="174"/>
                  <a:pt x="847" y="158"/>
                  <a:pt x="862" y="151"/>
                </a:cubicBez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948360" y="5462640"/>
            <a:ext cx="1392480" cy="803160"/>
          </a:xfrm>
          <a:custGeom>
            <a:avLst/>
            <a:gdLst/>
            <a:ahLst/>
            <a:rect l="l" t="t" r="r" b="b"/>
            <a:pathLst>
              <a:path w="877" h="506">
                <a:moveTo>
                  <a:pt x="0" y="211"/>
                </a:moveTo>
                <a:cubicBezTo>
                  <a:pt x="41" y="135"/>
                  <a:pt x="83" y="60"/>
                  <a:pt x="136" y="30"/>
                </a:cubicBezTo>
                <a:cubicBezTo>
                  <a:pt x="189" y="0"/>
                  <a:pt x="279" y="0"/>
                  <a:pt x="317" y="30"/>
                </a:cubicBezTo>
                <a:cubicBezTo>
                  <a:pt x="355" y="60"/>
                  <a:pt x="333" y="158"/>
                  <a:pt x="363" y="211"/>
                </a:cubicBezTo>
                <a:cubicBezTo>
                  <a:pt x="393" y="264"/>
                  <a:pt x="461" y="354"/>
                  <a:pt x="499" y="347"/>
                </a:cubicBezTo>
                <a:cubicBezTo>
                  <a:pt x="537" y="340"/>
                  <a:pt x="597" y="196"/>
                  <a:pt x="589" y="166"/>
                </a:cubicBezTo>
                <a:cubicBezTo>
                  <a:pt x="581" y="136"/>
                  <a:pt x="491" y="151"/>
                  <a:pt x="453" y="166"/>
                </a:cubicBezTo>
                <a:cubicBezTo>
                  <a:pt x="415" y="181"/>
                  <a:pt x="386" y="219"/>
                  <a:pt x="363" y="257"/>
                </a:cubicBezTo>
                <a:cubicBezTo>
                  <a:pt x="340" y="295"/>
                  <a:pt x="294" y="356"/>
                  <a:pt x="317" y="393"/>
                </a:cubicBezTo>
                <a:cubicBezTo>
                  <a:pt x="340" y="430"/>
                  <a:pt x="424" y="468"/>
                  <a:pt x="499" y="483"/>
                </a:cubicBezTo>
                <a:cubicBezTo>
                  <a:pt x="574" y="498"/>
                  <a:pt x="718" y="506"/>
                  <a:pt x="771" y="483"/>
                </a:cubicBezTo>
                <a:cubicBezTo>
                  <a:pt x="824" y="460"/>
                  <a:pt x="801" y="385"/>
                  <a:pt x="816" y="347"/>
                </a:cubicBezTo>
                <a:cubicBezTo>
                  <a:pt x="831" y="309"/>
                  <a:pt x="877" y="280"/>
                  <a:pt x="862" y="257"/>
                </a:cubicBez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9096480" y="5497560"/>
            <a:ext cx="1092240" cy="876240"/>
          </a:xfrm>
          <a:custGeom>
            <a:avLst/>
            <a:gdLst/>
            <a:ahLst/>
            <a:rect l="l" t="t" r="r" b="b"/>
            <a:pathLst>
              <a:path w="688" h="552">
                <a:moveTo>
                  <a:pt x="98" y="144"/>
                </a:moveTo>
                <a:cubicBezTo>
                  <a:pt x="49" y="303"/>
                  <a:pt x="0" y="462"/>
                  <a:pt x="53" y="507"/>
                </a:cubicBezTo>
                <a:cubicBezTo>
                  <a:pt x="106" y="552"/>
                  <a:pt x="348" y="484"/>
                  <a:pt x="416" y="416"/>
                </a:cubicBezTo>
                <a:cubicBezTo>
                  <a:pt x="484" y="348"/>
                  <a:pt x="431" y="166"/>
                  <a:pt x="461" y="98"/>
                </a:cubicBezTo>
                <a:cubicBezTo>
                  <a:pt x="491" y="30"/>
                  <a:pt x="559" y="0"/>
                  <a:pt x="597" y="8"/>
                </a:cubicBezTo>
                <a:cubicBezTo>
                  <a:pt x="635" y="16"/>
                  <a:pt x="688" y="84"/>
                  <a:pt x="688" y="144"/>
                </a:cubicBez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918520" y="5797440"/>
            <a:ext cx="119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Locu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554720" y="4160880"/>
            <a:ext cx="148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apt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e áud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2360" y="6518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511600" y="6445080"/>
            <a:ext cx="229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ocessa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9975960" y="6229440"/>
            <a:ext cx="133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ntro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8321040" y="4357800"/>
            <a:ext cx="1771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(805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elé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1919600" y="478944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ar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eaeae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419640" y="899640"/>
            <a:ext cx="9216720" cy="2305080"/>
          </a:xfrm>
          <a:prstGeom prst="rect">
            <a:avLst/>
          </a:prstGeom>
          <a:noFill/>
          <a:ln w="0">
            <a:noFill/>
          </a:ln>
        </p:spPr>
        <p:txBody>
          <a:bodyPr lIns="151560" rIns="151560" tIns="75960" bIns="75960" anchor="ctr">
            <a:noAutofit/>
          </a:bodyPr>
          <a:p>
            <a:pPr indent="0" algn="ctr">
              <a:buNone/>
              <a:tabLst>
                <a:tab algn="l" pos="0"/>
                <a:tab algn="l" pos="1517760"/>
                <a:tab algn="l" pos="3035160"/>
                <a:tab algn="l" pos="4552920"/>
                <a:tab algn="l" pos="6070680"/>
                <a:tab algn="l" pos="7588080"/>
                <a:tab algn="l" pos="9105840"/>
                <a:tab algn="l" pos="10623600"/>
              </a:tabLst>
            </a:pPr>
            <a:r>
              <a:rPr b="0" lang="pt-BR" sz="7200" spc="-1" strike="noStrike">
                <a:solidFill>
                  <a:srgbClr val="cc3300"/>
                </a:solidFill>
                <a:latin typeface="Arial"/>
              </a:rPr>
              <a:t>Diagrama de blocos do processamento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116000" y="1981080"/>
            <a:ext cx="1585800" cy="132552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6372360" y="6518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692360" y="4716360"/>
            <a:ext cx="2735280" cy="1068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Aquisição da placa de s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364000" y="4716360"/>
            <a:ext cx="3529080" cy="1068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Pré-tratamento do sinal de áud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9612360" y="4716360"/>
            <a:ext cx="4897440" cy="1068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tração dos coeficientes Mel-Cepstra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261440" y="6589800"/>
            <a:ext cx="3529080" cy="1068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Comparação com padrõ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435640" y="6589800"/>
            <a:ext cx="3529080" cy="1556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Mostrar na tela e envia comando para ser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427640" y="5221440"/>
            <a:ext cx="93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8893080" y="522144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1844360" y="579744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8964720" y="7093080"/>
            <a:ext cx="129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eaeae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74720" y="388440"/>
            <a:ext cx="13932000" cy="1621080"/>
          </a:xfrm>
          <a:prstGeom prst="rect">
            <a:avLst/>
          </a:prstGeom>
          <a:noFill/>
          <a:ln w="0">
            <a:noFill/>
          </a:ln>
        </p:spPr>
        <p:txBody>
          <a:bodyPr lIns="151560" rIns="151560" tIns="75960" bIns="75960" anchor="ctr">
            <a:noAutofit/>
          </a:bodyPr>
          <a:p>
            <a:pPr indent="0" algn="ctr">
              <a:buNone/>
              <a:tabLst>
                <a:tab algn="l" pos="0"/>
                <a:tab algn="l" pos="1517760"/>
                <a:tab algn="l" pos="3035160"/>
                <a:tab algn="l" pos="4552920"/>
                <a:tab algn="l" pos="6070680"/>
                <a:tab algn="l" pos="7588080"/>
                <a:tab algn="l" pos="9105840"/>
                <a:tab algn="l" pos="10623600"/>
              </a:tabLst>
            </a:pPr>
            <a:r>
              <a:rPr b="0" lang="pt-BR" sz="7200" spc="-1" strike="noStrike">
                <a:solidFill>
                  <a:srgbClr val="cc3300"/>
                </a:solidFill>
                <a:latin typeface="Arial"/>
              </a:rPr>
              <a:t>Aquisição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6300720" y="6084720"/>
            <a:ext cx="1586160" cy="132588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 flipH="1">
            <a:off x="8028000" y="5869080"/>
            <a:ext cx="122400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9469440" y="5076720"/>
            <a:ext cx="352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9396360" y="5437080"/>
            <a:ext cx="4824360" cy="6811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971640" y="2413080"/>
            <a:ext cx="13933440" cy="18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51560" rIns="151560" tIns="75960" bIns="75960" anchor="t">
            <a:normAutofit fontScale="94000"/>
          </a:bodyPr>
          <a:p>
            <a:pPr marL="534240" indent="-534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517760"/>
                <a:tab algn="l" pos="3035160"/>
                <a:tab algn="l" pos="4552920"/>
                <a:tab algn="l" pos="6070680"/>
                <a:tab algn="l" pos="7588080"/>
                <a:tab algn="l" pos="9105840"/>
                <a:tab algn="l" pos="106236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  <a:ea typeface="宋体"/>
              </a:rPr>
              <a:t>Para a aquisição das palavras, foi utilizada a função do programa Matlab® </a:t>
            </a:r>
            <a:r>
              <a:rPr b="0" i="1" lang="pt-BR" sz="3000" spc="-1" strike="noStrike">
                <a:solidFill>
                  <a:srgbClr val="000000"/>
                </a:solidFill>
                <a:latin typeface="Arial"/>
                <a:ea typeface="宋体"/>
              </a:rPr>
              <a:t>WAVRECORD</a:t>
            </a:r>
            <a:r>
              <a:rPr b="0" lang="pt-BR" sz="3000" spc="-1" strike="noStrike">
                <a:solidFill>
                  <a:srgbClr val="000000"/>
                </a:solidFill>
                <a:latin typeface="Arial"/>
                <a:ea typeface="宋体"/>
              </a:rPr>
              <a:t>, com freqüência de amostragem setada em 8KHz e o numero de amostra em 16000. A análise foi baseada em 4KHz, que é a freqüência de telefoni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eaeae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74720" y="388440"/>
            <a:ext cx="13932000" cy="1621080"/>
          </a:xfrm>
          <a:prstGeom prst="rect">
            <a:avLst/>
          </a:prstGeom>
          <a:noFill/>
          <a:ln w="0">
            <a:noFill/>
          </a:ln>
        </p:spPr>
        <p:txBody>
          <a:bodyPr lIns="151560" rIns="151560" tIns="75960" bIns="75960" anchor="ctr">
            <a:noAutofit/>
          </a:bodyPr>
          <a:p>
            <a:pPr indent="0" algn="ctr">
              <a:buNone/>
              <a:tabLst>
                <a:tab algn="l" pos="0"/>
                <a:tab algn="l" pos="1517760"/>
                <a:tab algn="l" pos="3035160"/>
                <a:tab algn="l" pos="4552920"/>
                <a:tab algn="l" pos="6070680"/>
                <a:tab algn="l" pos="7588080"/>
                <a:tab algn="l" pos="9105840"/>
                <a:tab algn="l" pos="10623600"/>
              </a:tabLst>
            </a:pPr>
            <a:r>
              <a:rPr b="0" lang="pt-BR" sz="7200" spc="-1" strike="noStrike">
                <a:solidFill>
                  <a:srgbClr val="cc3300"/>
                </a:solidFill>
                <a:latin typeface="Arial"/>
              </a:rPr>
              <a:t>Pré-tratamento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684360" y="2124000"/>
            <a:ext cx="4392360" cy="32562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580000" y="2124000"/>
            <a:ext cx="4392720" cy="33130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10404360" y="2124000"/>
            <a:ext cx="4392720" cy="32958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6732720" y="6661080"/>
            <a:ext cx="2808000" cy="211464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5"/>
          <a:stretch/>
        </p:blipFill>
        <p:spPr>
          <a:xfrm>
            <a:off x="10836360" y="7021440"/>
            <a:ext cx="3456000" cy="171144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4360" y="5940000"/>
            <a:ext cx="4752720" cy="3313080"/>
          </a:xfrm>
          <a:prstGeom prst="rect">
            <a:avLst/>
          </a:prstGeom>
          <a:noFill/>
          <a:ln w="0">
            <a:noFill/>
          </a:ln>
        </p:spPr>
        <p:txBody>
          <a:bodyPr lIns="151560" rIns="151560" tIns="75960" bIns="75960" anchor="t">
            <a:normAutofit/>
          </a:bodyPr>
          <a:p>
            <a:pPr marL="56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517760"/>
                <a:tab algn="l" pos="3035160"/>
                <a:tab algn="l" pos="4552920"/>
                <a:tab algn="l" pos="6070680"/>
                <a:tab algn="l" pos="7588080"/>
                <a:tab algn="l" pos="9105840"/>
                <a:tab algn="l" pos="106236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宋体"/>
              </a:rPr>
              <a:t>Divisão do pré-tratam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1517760"/>
                <a:tab algn="l" pos="3035160"/>
                <a:tab algn="l" pos="4552920"/>
                <a:tab algn="l" pos="6070680"/>
                <a:tab algn="l" pos="7588080"/>
                <a:tab algn="l" pos="9105840"/>
                <a:tab algn="l" pos="10623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8440" indent="-5684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517760"/>
                <a:tab algn="l" pos="3035160"/>
                <a:tab algn="l" pos="4552920"/>
                <a:tab algn="l" pos="6070680"/>
                <a:tab algn="l" pos="7588080"/>
                <a:tab algn="l" pos="9105840"/>
                <a:tab algn="l" pos="106236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Remoção do Nível D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8440" indent="-5684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517760"/>
                <a:tab algn="l" pos="3035160"/>
                <a:tab algn="l" pos="4552920"/>
                <a:tab algn="l" pos="6070680"/>
                <a:tab algn="l" pos="7588080"/>
                <a:tab algn="l" pos="9105840"/>
                <a:tab algn="l" pos="106236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Normalizaç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8440" indent="-5684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517760"/>
                <a:tab algn="l" pos="3035160"/>
                <a:tab algn="l" pos="4552920"/>
                <a:tab algn="l" pos="6070680"/>
                <a:tab algn="l" pos="7588080"/>
                <a:tab algn="l" pos="9105840"/>
                <a:tab algn="l" pos="106236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Determinação da parte útil do si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076720" y="378144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72720" y="37814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084720" y="586908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emoção do nível D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1269800" y="5940360"/>
            <a:ext cx="35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Normaliz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2T23:56:34Z</dcterms:created>
  <dc:creator> </dc:creator>
  <dc:description/>
  <dc:language>en-US</dc:language>
  <cp:lastModifiedBy> </cp:lastModifiedBy>
  <dcterms:modified xsi:type="dcterms:W3CDTF">2006-05-16T19:03:58Z</dcterms:modified>
  <cp:revision>28</cp:revision>
  <dc:subject/>
  <dc:title>Reconhecimento de comandos de voz para acionar equipamentos eletrônicos</dc:title>
</cp:coreProperties>
</file>