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5479713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D39-A8A4-441F-AF79-CB449506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139320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720" y="5618160"/>
            <a:ext cx="139320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6E7-A79B-415D-A1D3-0049C2D1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7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135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5D4-4D6B-402C-A75D-006E73CB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85320" y="226692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95920" y="226692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720" y="561816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85320" y="561816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95920" y="561816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D93-7D91-45CE-A8D7-39BE3B54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720" y="2266920"/>
            <a:ext cx="1393200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7BD-8119-4FF9-9305-2E67D10F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139320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000-DA89-4008-834B-079BAE08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D3F-AE92-4DC9-BD8F-C2DC18D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213-DF4B-4EC0-B623-15C378D6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4720" y="388440"/>
            <a:ext cx="13932000" cy="75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48B-2798-46D4-818D-1CD6735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7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16A-1731-435A-92D1-8F8B6BA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35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3F7-4429-46CF-9DBF-4E3F696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720" y="5618160"/>
            <a:ext cx="139320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D9D-54B5-46C8-ABC6-A0C170C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720" y="2266920"/>
            <a:ext cx="139320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 fontScale="92000"/>
          </a:bodyPr>
          <a:p>
            <a:pPr marL="522720" indent="-5227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4366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745280" indent="-3488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3" marL="2442960" indent="-3502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3139920" indent="-3477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5" marL="3139920" indent="-3477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6" marL="3139920" indent="-3477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720" y="8850240"/>
            <a:ext cx="3611520" cy="6811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89120" y="8850240"/>
            <a:ext cx="4902120" cy="6811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095200" y="8850240"/>
            <a:ext cx="3611520" cy="6811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fld id="{6052063D-7D4F-456F-AAF1-02A47E683E8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5800" y="2052360"/>
            <a:ext cx="13493880" cy="31194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6100" spc="-1" strike="noStrike">
                <a:solidFill>
                  <a:srgbClr val="cc3300"/>
                </a:solidFill>
                <a:latin typeface="Arial"/>
              </a:rPr>
              <a:t>Reconhecimento de comandos de voz para acionar equipamentos eletrônico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96360" y="6516720"/>
            <a:ext cx="453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Luiz Gustavo Fagun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ULBRA - Cano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2006/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Pré-tratame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8000" y="8821800"/>
            <a:ext cx="1873080" cy="5047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Vo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figura1" descr=""/>
          <p:cNvPicPr/>
          <p:nvPr/>
        </p:nvPicPr>
        <p:blipFill>
          <a:blip r:embed="rId1"/>
          <a:stretch/>
        </p:blipFill>
        <p:spPr>
          <a:xfrm>
            <a:off x="395280" y="1908000"/>
            <a:ext cx="3529080" cy="2644920"/>
          </a:xfrm>
          <a:prstGeom prst="rect">
            <a:avLst/>
          </a:prstGeom>
          <a:ln w="0">
            <a:noFill/>
          </a:ln>
        </p:spPr>
      </p:pic>
      <p:pic>
        <p:nvPicPr>
          <p:cNvPr id="115" name="figura1" descr=""/>
          <p:cNvPicPr/>
          <p:nvPr/>
        </p:nvPicPr>
        <p:blipFill>
          <a:blip r:embed="rId2"/>
          <a:stretch/>
        </p:blipFill>
        <p:spPr>
          <a:xfrm>
            <a:off x="4140360" y="1908000"/>
            <a:ext cx="3527280" cy="2648160"/>
          </a:xfrm>
          <a:prstGeom prst="rect">
            <a:avLst/>
          </a:prstGeom>
          <a:ln w="0">
            <a:noFill/>
          </a:ln>
        </p:spPr>
      </p:pic>
      <p:pic>
        <p:nvPicPr>
          <p:cNvPr id="116" name="figura1" descr=""/>
          <p:cNvPicPr/>
          <p:nvPr/>
        </p:nvPicPr>
        <p:blipFill>
          <a:blip r:embed="rId3"/>
          <a:stretch/>
        </p:blipFill>
        <p:spPr>
          <a:xfrm>
            <a:off x="7812000" y="190800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117" name="figura24" descr=""/>
          <p:cNvPicPr/>
          <p:nvPr/>
        </p:nvPicPr>
        <p:blipFill>
          <a:blip r:embed="rId4"/>
          <a:stretch/>
        </p:blipFill>
        <p:spPr>
          <a:xfrm>
            <a:off x="11485440" y="1908000"/>
            <a:ext cx="3456000" cy="2611440"/>
          </a:xfrm>
          <a:prstGeom prst="rect">
            <a:avLst/>
          </a:prstGeom>
          <a:ln w="0">
            <a:noFill/>
          </a:ln>
        </p:spPr>
      </p:pic>
      <p:pic>
        <p:nvPicPr>
          <p:cNvPr id="118" name="figura1" descr=""/>
          <p:cNvPicPr/>
          <p:nvPr/>
        </p:nvPicPr>
        <p:blipFill>
          <a:blip r:embed="rId5"/>
          <a:stretch/>
        </p:blipFill>
        <p:spPr>
          <a:xfrm>
            <a:off x="395280" y="572436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119" name="figura1" descr=""/>
          <p:cNvPicPr/>
          <p:nvPr/>
        </p:nvPicPr>
        <p:blipFill>
          <a:blip r:embed="rId6"/>
          <a:stretch/>
        </p:blipFill>
        <p:spPr>
          <a:xfrm>
            <a:off x="4068720" y="5724360"/>
            <a:ext cx="3600360" cy="270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-29988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36160" y="10249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0" y="814464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86108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Esqu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09080" y="493236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8720" y="882180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F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932360"/>
            <a:ext cx="18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Dir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349080" y="4861080"/>
            <a:ext cx="18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5797440"/>
            <a:ext cx="34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Tempo = 0.5 s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Numero am.=40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885080" y="6948360"/>
            <a:ext cx="71294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Bancos de Filtros Me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720" y="2266560"/>
            <a:ext cx="13932000" cy="2089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  <a:ea typeface="宋体"/>
              </a:rPr>
              <a:t>Uma alternativa para a análise espectral, em sistemas de reconhecimento de voz, é utilizar a saída de um banco de filtros passa-bandas espaçados linearmente na escala m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4284720"/>
            <a:ext cx="6334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Coeficientes Mel-Cepstrai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13932000" cy="12254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Os coeficientes Mel Cepstrais são uma combinação da análise psicoacústica na escala mel com a análise cepstral ( cepstro=IDFT( log(DFT))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2440" y="3629880"/>
            <a:ext cx="8058240" cy="1461960"/>
            <a:chOff x="1162440" y="3629880"/>
            <a:chExt cx="8058240" cy="1461960"/>
          </a:xfrm>
        </p:grpSpPr>
        <p:sp>
          <p:nvSpPr>
            <p:cNvPr id="136" name=""/>
            <p:cNvSpPr/>
            <p:nvPr/>
          </p:nvSpPr>
          <p:spPr>
            <a:xfrm>
              <a:off x="4021920" y="362988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anel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1120" y="3629880"/>
              <a:ext cx="104184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00920" y="4672800"/>
              <a:ext cx="31197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anco de Filtros M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1760" y="4672800"/>
              <a:ext cx="10386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1160" y="4672800"/>
              <a:ext cx="10404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D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2360" y="362988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inal de v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62440" y="4672800"/>
              <a:ext cx="129888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MF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1360" y="383868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00920" y="383868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61880" y="383868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81720" y="383868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580720" y="4881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21920" y="4881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461320" y="4881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55640" y="6084720"/>
            <a:ext cx="6480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Os coeficientes mel cepstrais dão uma idéia de energia ao longo do tempo, dividida em freqüênci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49092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461440" y="5076720"/>
          <a:ext cx="7016760" cy="43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1440" y="5076720"/>
                    <a:ext cx="70167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0000" y="324000"/>
            <a:ext cx="10566360" cy="16207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6600" spc="-1" strike="noStrike">
                <a:solidFill>
                  <a:srgbClr val="cc3300"/>
                </a:solidFill>
                <a:latin typeface="Arial"/>
                <a:ea typeface="宋体"/>
              </a:rPr>
              <a:t>Detalhamento dos Coeficientes Mel-Cepstrais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60960" y="2548800"/>
            <a:ext cx="8058240" cy="1461960"/>
            <a:chOff x="1560960" y="2548800"/>
            <a:chExt cx="8058240" cy="1461960"/>
          </a:xfrm>
        </p:grpSpPr>
        <p:sp>
          <p:nvSpPr>
            <p:cNvPr id="156" name=""/>
            <p:cNvSpPr/>
            <p:nvPr/>
          </p:nvSpPr>
          <p:spPr>
            <a:xfrm>
              <a:off x="4420440" y="254880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anel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9640" y="2548800"/>
              <a:ext cx="104184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99440" y="3591720"/>
              <a:ext cx="31197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anco de Filtros M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40280" y="3591720"/>
              <a:ext cx="10386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9680" y="3591720"/>
              <a:ext cx="10404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D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0880" y="254880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inal de v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0960" y="3591720"/>
              <a:ext cx="129888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MF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99880" y="275760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99440" y="275760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0400" y="2757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80240" y="275760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79240" y="380052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420440" y="380052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859840" y="380052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044720" y="4645080"/>
            <a:ext cx="669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Janelas de Hamming de 256 pontos sem overlap, totalizando 16 janelas do si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Banco de Filtros espacados em 100 mel, totalizando 21 fil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MFCC resultante: matriz de 16 linhas por 21 colun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9092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461440" y="5076720"/>
          <a:ext cx="7016760" cy="43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1440" y="5076720"/>
                    <a:ext cx="70167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Comparação com padrõe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0360" y="2340000"/>
            <a:ext cx="13932000" cy="12254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Para comparar as falas com os padrões e utilizado a função matemática correla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627280" y="3924360"/>
                <a:ext cx="356400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−</m:t>
                                        </m:r>
                                        <m:limUp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lim/>
                                        </m:limUp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453440" y="3708360"/>
                <a:ext cx="6264000" cy="21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/>
                                </m:limUpp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556000" y="6156360"/>
            <a:ext cx="439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Desvio padr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325080" y="6156360"/>
            <a:ext cx="439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Correla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7669080"/>
            <a:ext cx="13932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Num primeiro momento foi feito um programa que tinha que ter 10 padrões para cada palavra para que fosse mais eficaz o re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Comparação com parâmetro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21440" y="4573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700360"/>
            <a:ext cx="27352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sição da placa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2700360"/>
            <a:ext cx="35290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tratamento do sinal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59640" y="2700360"/>
            <a:ext cx="48974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ção dos coeficientes Mel-Cepst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10520" y="4645080"/>
            <a:ext cx="4102200" cy="106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ção com padrões (60 com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4645080"/>
            <a:ext cx="352908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strar na tela e envia comando para 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4920" y="3205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0720" y="3205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93440" y="3852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813800" y="5148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7308720"/>
            <a:ext cx="27352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sição da placa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7308720"/>
            <a:ext cx="352872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tratamento do sinal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7308720"/>
            <a:ext cx="48974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ção dos coeficientes Mel-Cepst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7813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9080" y="78138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909440" y="579744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392436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Padrõ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6373800"/>
            <a:ext cx="266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Amo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Função autoajuste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2557440"/>
            <a:ext cx="139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riada por dois mo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3276720"/>
            <a:ext cx="139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3637080"/>
            <a:ext cx="139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palavras com baixo re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4284720"/>
            <a:ext cx="1411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8000"/>
          </a:bodyPr>
          <a:p>
            <a:pPr marL="556920" indent="-55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ão: Faz a comparação de todos parâmetros e determina o acerto para cada palavra, fazendo uma varredura nos filtros e janelas. Esta varredura e no sentido de considerar apenas uma janela por vez para a comparação, e depois um filtro por v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6920" indent="-55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considerado como coeficientes de interesse, os filtros de maior acerto para cada palavra individual e as janelas de maior acerto para cada palav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6920" indent="-55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e considerado as duas janelas de maior acerto geral e 4 filtros de maior acerto geral, totalizando 8 janelas e de filtros que serão comp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7597800"/>
            <a:ext cx="1425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Ganhos: melhor distribuição do acerto das palavras individualmente e velocidade, pois não é preciso calcular todos parâ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Função Performance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62908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rifica até 50 amostras de cada palavra, já gravadas, e determina o percentual de reconhecimento de cada palav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21308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Gera relatório dos reconhecimentos ob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Telas Gráfica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262908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oram implementadas telas gráficas no programa MATLA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392436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2000"/>
          </a:bodyPr>
          <a:p>
            <a:pPr marL="408960" indent="-40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 partir das telas é possível carregar usuários, gravar padr~ões e amostras, executar a função de autoajuste e o teste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Resultado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62908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85000"/>
          </a:bodyPr>
          <a:p>
            <a:pPr marL="483120" indent="-483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rificou-se um reconhecimento superior a 80% para seis usuários distin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8720" y="3852720"/>
          <a:ext cx="13878000" cy="1127160"/>
        </p:xfrm>
        <a:graphic>
          <a:graphicData uri="http://schemas.openxmlformats.org/drawingml/2006/table">
            <a:tbl>
              <a:tblPr/>
              <a:tblGrid>
                <a:gridCol w="1984320"/>
                <a:gridCol w="1978200"/>
                <a:gridCol w="1979280"/>
                <a:gridCol w="1984680"/>
                <a:gridCol w="1982520"/>
                <a:gridCol w="1984680"/>
                <a:gridCol w="1984320"/>
              </a:tblGrid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ário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3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6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28720" y="543708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2000"/>
          </a:bodyPr>
          <a:p>
            <a:pPr marL="408960" indent="-40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m testes que foi usado padrões gravados por um locutor e amostras de outro, o reconhecimento foi muito baixo, demonstrando que o sistema é dependente do locu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539280"/>
            <a:ext cx="1393344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2555640"/>
            <a:ext cx="13933440" cy="374796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Criar um software capaz de fazer o reconhecimento de comandos de voz dentro de um pequeno universo de comando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37080" y="7308720"/>
            <a:ext cx="71928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7093080"/>
            <a:ext cx="1585800" cy="132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flipH="1">
            <a:off x="4427640" y="6805440"/>
            <a:ext cx="792000" cy="925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12000" y="7645320"/>
            <a:ext cx="1657080" cy="552600"/>
          </a:xfrm>
          <a:custGeom>
            <a:avLst/>
            <a:gdLst/>
            <a:ahLst/>
            <a:rect l="l" t="t" r="r" b="b"/>
            <a:pathLst>
              <a:path w="1089" h="348">
                <a:moveTo>
                  <a:pt x="0" y="196"/>
                </a:moveTo>
                <a:cubicBezTo>
                  <a:pt x="189" y="272"/>
                  <a:pt x="379" y="348"/>
                  <a:pt x="454" y="333"/>
                </a:cubicBezTo>
                <a:cubicBezTo>
                  <a:pt x="529" y="318"/>
                  <a:pt x="424" y="159"/>
                  <a:pt x="454" y="106"/>
                </a:cubicBezTo>
                <a:cubicBezTo>
                  <a:pt x="484" y="53"/>
                  <a:pt x="590" y="0"/>
                  <a:pt x="635" y="15"/>
                </a:cubicBezTo>
                <a:cubicBezTo>
                  <a:pt x="680" y="30"/>
                  <a:pt x="673" y="181"/>
                  <a:pt x="726" y="196"/>
                </a:cubicBezTo>
                <a:cubicBezTo>
                  <a:pt x="779" y="211"/>
                  <a:pt x="893" y="98"/>
                  <a:pt x="953" y="106"/>
                </a:cubicBezTo>
                <a:cubicBezTo>
                  <a:pt x="1013" y="114"/>
                  <a:pt x="1074" y="227"/>
                  <a:pt x="1089" y="24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8360" y="7740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28360" y="73818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Problemas Encontrad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2773440"/>
            <a:ext cx="1317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controle não é adequado para o controle do carro, pois o mesmo é muito lento pelo fato de cada palavra poder ser falada a cada 2 segun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4429080"/>
            <a:ext cx="1317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1000"/>
          </a:bodyPr>
          <a:p>
            <a:pPr marL="516960" indent="-51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software apresenta um bom desempenho para palavras que foram pronunciadas no mesmo dia em que foram gravados os padrões. Em dias diferentes, diminui o índice de re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6589800"/>
            <a:ext cx="1317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sistema como um todo apresentou vulnerabilidade a ruídos. Este fato é notado, que para palavras gravadas com som mais baixo, o desempenho fica p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Motivaç</a:t>
            </a: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ã</a:t>
            </a: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844360"/>
            <a:ext cx="13933800" cy="381636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Um crescente numero de pesquisas estão sendo desenvolvidos nesta área, devido a gama de produtos que podem conter este tipo de tecn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Definições inicia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266560"/>
            <a:ext cx="14690880" cy="15858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O programa será implementado no Matlab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®, 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devido a facilidade para gerar gráficos e pelas funções prontas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852720"/>
            <a:ext cx="146908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 programa irá controlar um carro de controle remoto através da porta serial (Implementação)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292720"/>
            <a:ext cx="146908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A interpretação da serial será pelo KIT ULB51 (89C52)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6373800"/>
            <a:ext cx="146908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3000"/>
          </a:bodyPr>
          <a:p>
            <a:pPr marL="528480" indent="-5284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 programa terá gravado 6 comandos diferentes para que seja feito o reconhecimento: esquerda, direita, linha, frente, para, volta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08000" y="684000"/>
            <a:ext cx="8496360" cy="17636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6600" spc="-1" strike="noStrike">
                <a:solidFill>
                  <a:srgbClr val="cc3300"/>
                </a:solidFill>
                <a:latin typeface="Arial"/>
              </a:rPr>
              <a:t>Componentes Básicos Utilizad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989440"/>
            <a:ext cx="14003280" cy="93816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Kit de desenvolvimento do 89C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97440"/>
            <a:ext cx="14003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Notebook HP modelo DV5178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068720"/>
            <a:ext cx="14006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800" y="5005440"/>
            <a:ext cx="14001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Carro de controle remo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440" y="5942160"/>
            <a:ext cx="14003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Microfone So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440" y="6877080"/>
            <a:ext cx="140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Placa de interface (re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08360" y="684000"/>
            <a:ext cx="7128000" cy="17636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Diagrama geral do proje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flipH="1">
            <a:off x="3274560" y="4573440"/>
            <a:ext cx="792360" cy="92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5076720"/>
            <a:ext cx="8776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72720" y="514980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101080" y="5365800"/>
            <a:ext cx="129528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388360" y="5437080"/>
            <a:ext cx="504720" cy="344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 flipH="1">
            <a:off x="11267640" y="5510160"/>
            <a:ext cx="1225800" cy="48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867280" y="4933800"/>
            <a:ext cx="1586160" cy="1325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75280" y="5557680"/>
            <a:ext cx="1368360" cy="552600"/>
          </a:xfrm>
          <a:custGeom>
            <a:avLst/>
            <a:gdLst/>
            <a:ahLst/>
            <a:rect l="l" t="t" r="r" b="b"/>
            <a:pathLst>
              <a:path w="862" h="348">
                <a:moveTo>
                  <a:pt x="0" y="151"/>
                </a:moveTo>
                <a:cubicBezTo>
                  <a:pt x="42" y="234"/>
                  <a:pt x="84" y="318"/>
                  <a:pt x="137" y="333"/>
                </a:cubicBezTo>
                <a:cubicBezTo>
                  <a:pt x="190" y="348"/>
                  <a:pt x="280" y="288"/>
                  <a:pt x="318" y="242"/>
                </a:cubicBezTo>
                <a:cubicBezTo>
                  <a:pt x="356" y="196"/>
                  <a:pt x="303" y="98"/>
                  <a:pt x="363" y="60"/>
                </a:cubicBezTo>
                <a:cubicBezTo>
                  <a:pt x="423" y="22"/>
                  <a:pt x="613" y="0"/>
                  <a:pt x="681" y="15"/>
                </a:cubicBezTo>
                <a:cubicBezTo>
                  <a:pt x="749" y="30"/>
                  <a:pt x="742" y="128"/>
                  <a:pt x="772" y="151"/>
                </a:cubicBezTo>
                <a:cubicBezTo>
                  <a:pt x="802" y="174"/>
                  <a:pt x="847" y="158"/>
                  <a:pt x="862" y="151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462640"/>
            <a:ext cx="1392480" cy="803160"/>
          </a:xfrm>
          <a:custGeom>
            <a:avLst/>
            <a:gdLst/>
            <a:ahLst/>
            <a:rect l="l" t="t" r="r" b="b"/>
            <a:pathLst>
              <a:path w="877" h="506">
                <a:moveTo>
                  <a:pt x="0" y="211"/>
                </a:moveTo>
                <a:cubicBezTo>
                  <a:pt x="41" y="135"/>
                  <a:pt x="83" y="60"/>
                  <a:pt x="136" y="30"/>
                </a:cubicBezTo>
                <a:cubicBezTo>
                  <a:pt x="189" y="0"/>
                  <a:pt x="279" y="0"/>
                  <a:pt x="317" y="30"/>
                </a:cubicBezTo>
                <a:cubicBezTo>
                  <a:pt x="355" y="60"/>
                  <a:pt x="333" y="158"/>
                  <a:pt x="363" y="211"/>
                </a:cubicBezTo>
                <a:cubicBezTo>
                  <a:pt x="393" y="264"/>
                  <a:pt x="461" y="354"/>
                  <a:pt x="499" y="347"/>
                </a:cubicBezTo>
                <a:cubicBezTo>
                  <a:pt x="537" y="340"/>
                  <a:pt x="597" y="196"/>
                  <a:pt x="589" y="166"/>
                </a:cubicBezTo>
                <a:cubicBezTo>
                  <a:pt x="581" y="136"/>
                  <a:pt x="491" y="151"/>
                  <a:pt x="453" y="166"/>
                </a:cubicBezTo>
                <a:cubicBezTo>
                  <a:pt x="415" y="181"/>
                  <a:pt x="386" y="219"/>
                  <a:pt x="363" y="257"/>
                </a:cubicBezTo>
                <a:cubicBezTo>
                  <a:pt x="340" y="295"/>
                  <a:pt x="294" y="356"/>
                  <a:pt x="317" y="393"/>
                </a:cubicBezTo>
                <a:cubicBezTo>
                  <a:pt x="340" y="430"/>
                  <a:pt x="424" y="468"/>
                  <a:pt x="499" y="483"/>
                </a:cubicBezTo>
                <a:cubicBezTo>
                  <a:pt x="574" y="498"/>
                  <a:pt x="718" y="506"/>
                  <a:pt x="771" y="483"/>
                </a:cubicBezTo>
                <a:cubicBezTo>
                  <a:pt x="824" y="460"/>
                  <a:pt x="801" y="385"/>
                  <a:pt x="816" y="347"/>
                </a:cubicBezTo>
                <a:cubicBezTo>
                  <a:pt x="831" y="309"/>
                  <a:pt x="877" y="280"/>
                  <a:pt x="862" y="257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96480" y="5497560"/>
            <a:ext cx="1092240" cy="876240"/>
          </a:xfrm>
          <a:custGeom>
            <a:avLst/>
            <a:gdLst/>
            <a:ahLst/>
            <a:rect l="l" t="t" r="r" b="b"/>
            <a:pathLst>
              <a:path w="688" h="552">
                <a:moveTo>
                  <a:pt x="98" y="144"/>
                </a:moveTo>
                <a:cubicBezTo>
                  <a:pt x="49" y="303"/>
                  <a:pt x="0" y="462"/>
                  <a:pt x="53" y="507"/>
                </a:cubicBezTo>
                <a:cubicBezTo>
                  <a:pt x="106" y="552"/>
                  <a:pt x="348" y="484"/>
                  <a:pt x="416" y="416"/>
                </a:cubicBezTo>
                <a:cubicBezTo>
                  <a:pt x="484" y="348"/>
                  <a:pt x="431" y="166"/>
                  <a:pt x="461" y="98"/>
                </a:cubicBezTo>
                <a:cubicBezTo>
                  <a:pt x="491" y="30"/>
                  <a:pt x="559" y="0"/>
                  <a:pt x="597" y="8"/>
                </a:cubicBezTo>
                <a:cubicBezTo>
                  <a:pt x="635" y="16"/>
                  <a:pt x="688" y="84"/>
                  <a:pt x="688" y="14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8520" y="57974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54720" y="41608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651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11600" y="64450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75960" y="62294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21040" y="4357800"/>
            <a:ext cx="17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80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919600" y="478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19640" y="899640"/>
            <a:ext cx="9216720" cy="2305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Diagrama de blocos do processame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1981080"/>
            <a:ext cx="1585800" cy="1325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372360" y="651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4716360"/>
            <a:ext cx="27352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sição da placa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4716360"/>
            <a:ext cx="35290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tratamento do sinal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12360" y="4716360"/>
            <a:ext cx="48974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ção dos coeficientes Mel-Cepst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261440" y="6589800"/>
            <a:ext cx="35290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ção com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6589800"/>
            <a:ext cx="352908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strar na tela e envia comando para 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52214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93080" y="52214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44360" y="5797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8964720" y="70930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Aquisi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00720" y="6084720"/>
            <a:ext cx="1586160" cy="132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8028000" y="58690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69440" y="507672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396360" y="5437080"/>
            <a:ext cx="4824360" cy="68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2413080"/>
            <a:ext cx="139334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4000"/>
          </a:bodyPr>
          <a:p>
            <a:pPr marL="534240" indent="-534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Para a aquisição das palavras, foi utilizada a função do programa Matlab®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WAVRECORD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, com freqüência de amostragem setada em 8KHz e o numero de amostra em 16000. A análise foi baseada em 4KHz, que é a freqüência de telefo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Pré-tratame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124000"/>
            <a:ext cx="4392360" cy="325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2124000"/>
            <a:ext cx="439272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404360" y="212400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732720" y="6661080"/>
            <a:ext cx="2808000" cy="211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836360" y="7021440"/>
            <a:ext cx="3456000" cy="1711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5940000"/>
            <a:ext cx="4752720" cy="3313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Divisão do pré-tra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moção do Nível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erminação da parte útil do s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781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72720" y="378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5869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ção do nível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69800" y="5940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3:56:34Z</dcterms:created>
  <dc:creator> </dc:creator>
  <dc:description/>
  <dc:language>en-US</dc:language>
  <cp:lastModifiedBy> </cp:lastModifiedBy>
  <dcterms:modified xsi:type="dcterms:W3CDTF">2006-06-27T20:53:50Z</dcterms:modified>
  <cp:revision>34</cp:revision>
  <dc:subject/>
  <dc:title>Reconhecimento de comandos de voz para acionar equipamentos eletrônicos</dc:title>
</cp:coreProperties>
</file>